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984-0969-4BB2-BC73-7D6792B8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99E-606C-4121-ABE5-268C804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3D2-74A7-4F56-B1E3-7D20CC3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8DE-E86D-4C9D-B7A0-C97BDF2B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18B1-01CD-47A6-80D2-C55F1D76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8DF9-A468-4F5F-BE5A-7402808A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55B7-B690-4720-A782-1B6893D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4940-2D4A-4E60-A455-F418D825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1478-60A5-4316-9C23-479E6F74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6CA-D838-4ADD-BD49-0EBB4EAF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0E2-E9AE-45B0-9D00-620BA2E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5B1-BD92-4F27-9F2C-731E710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F766-1411-400B-B894-050FAC1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185-20D7-4163-B9F4-8F24F778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A4F-AA34-44FC-BD5C-C936929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AF84-398F-4DCB-AE10-1BD80AEB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A3C2-CD2B-4602-9A6A-8489603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D26-0ADA-4F8A-B113-19BFFAA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5D8-87AE-4601-86D1-22D251D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F2E-F19E-4B12-AA15-1DDBDDE9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7CF-5B9B-46B3-B912-3A1350D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A2F-BFF6-42B7-9778-EA8B51C3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B51-B076-4F59-ADB0-B603ED7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5A0-DAC7-46F2-901E-F5C3B5E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9C9-A2E9-45CC-8DCC-6283FE6F2D8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3F9-697E-4775-88E4-EE062CA4713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PIJAT BAY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Disentuh, dirawat, dipijat adalah makanan yang baik untuk bayi. Makanan yang sama pentingnya seperti vitamin dan mineral. Dr. Federick L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buah  penelitian terhadap bayi prematur, satu kelompok diberikan pemijatan dan yang lain tidak. Hasilnya 50 % lebih baik pada anak  prematur dengan pijit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buah penelitian pada anak prasekolah. Pemberian pijatan selama 15 menit sebelum mengerjakan soal memberikan hasil 50 % lebih baik dari sisi waktu mengerjakan soal dan nilai uji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dapat merangsang  sistem pencernaan dan menjadi lapar, sehingga dia akan  membutuhkan  ASI dan makanan lebih banya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anfaat terbesar dari pemijatan yang dilakukan setiap hari adalah dalam 6 atau 7 bulan  pertama. Pemijatan dapat dilakuan hingga 36 bulan, beberapa ahli membolehkan lebih dari itu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KEUNTUNGAN  MEMIJAT: BAY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macu sistem sirkulasi dan denyut jantung, pernafasan, pencernaan dan sistem kekebalan tubuh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ndidik  untuk lebih tenang dalam menghadapi  st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ndorong pertumbuhan susunan otot dan kelenturan yang akan membantu dalam  pertumbuhan  kemampuan fisi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ngat berarti untuk  persiapan tubuh dalam berbagai kegiatan, serta meningkatkan gerakan dan ketenanga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KEUNTUNGAN  MEMIJAT: ORANG TUA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i pengetahuan yang besar pada ortu, untuk memahami anak merek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agi seorang ibu akan membantu untuk melancarkan ASI, sehingga membantu dalam produksi ASI maupun kemampuan ibu mendapatkan ketenang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WAKTU MEMIJAT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aktu memijat dapat dilakukan pada pagi dan malam hari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IDAK DIANJURKA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emijatan langsung sehabis maka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angunkan bayi untuk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bayi saat sedang saki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manakala tidak mau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aksakan posisi tertentu ketika mem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PERSIAPAN MEMIJIT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angan bersih dan hang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uku tidak melukai bay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uangan: hangat, tidak pengap, sega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ayi tidak sehabis makan atau sedang lapa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iapkan  waktu selama 15 meni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DIANJURKAN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ontak mat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rnyanyi, bercerita, komunikas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ulai dengan sentuhan ringa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anggap akan isaratnya:suka, tidak  suka, bosan, menola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andikan  sesudah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23:29:30Z</dcterms:created>
  <dc:creator>bsbowo</dc:creator>
  <dc:description/>
  <dc:language>en-US</dc:language>
  <cp:lastModifiedBy>bsbowo</cp:lastModifiedBy>
  <dcterms:modified xsi:type="dcterms:W3CDTF">2000-03-17T00:50:08Z</dcterms:modified>
  <cp:revision>9</cp:revision>
  <dc:subject/>
  <dc:title>INDIKATOR  NORMAL PERKEMBANGAN FUNGSI TUBUH</dc:title>
</cp:coreProperties>
</file>