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6C0-195A-4C7C-A405-E3A61E15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CC6-3B05-4490-91FB-1BD2258A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9C9-91BC-4664-B03F-E62A0498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9C4-100C-4500-A4F1-79ADA9E6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5A8F-2C1C-4AFA-9B14-F8868AFE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6046-239F-41E3-B2EF-DEA25A1A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C1F3-D030-4D6D-834C-5D7ED00D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BB8F-2243-4CAC-AF63-2E501A0C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5581-BABA-4663-80C0-62984EAC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B9C-DC25-4D71-8277-1E6862F3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9F72-3D82-4F49-8E2B-25A73A9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66E-9A5D-48C2-9DCB-04C7A335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32B8-2788-4CE2-BC34-A2BF238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09CC-9C77-4320-BAD7-93E4313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929A-B434-4415-8177-5640E26A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9064-82FD-402F-A791-8FAA4325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447F-98ED-44E3-ADC7-AB63D9AC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6D5-E330-4C77-ADDE-325A608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2A9-915F-4B6B-922B-98F5F9CF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8CD-F9CF-4507-BD5C-04866101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A98-32A3-4561-B4D4-2A4F4C16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890-5261-4903-A22A-396F47DD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481-204A-493C-8FCE-B517154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F18-9661-49C2-9203-D21401E4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E274-EC0E-4B23-97AC-CE21ADA972D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37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33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164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3100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5B6-02E4-4406-B1AA-345C6BF8D02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PIJAT BAYI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Disentuh, dirawat, dipijat adalah makanan yang baik untuk bayi. Makanan yang sama pentingnya seperti vitamin dan mineral. Dr. Federick L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ebuah  penelitian terhadap bayi prematur, satu kelompok diberikan pemijatan dan yang lain tidak. Hasilnya 50 % lebih baik pada anak  prematur dengan pijita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ebuah penelitian pada anak prasekolah. Pemberian pijatan selama 15 menit sebelum mengerjakan soal memberikan hasil 50 % lebih baik dari sisi waktu mengerjakan soal dan nilai ujia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ijat dapat merangsang  sistem pencernaan dan menjadi lapar, sehingga dia akan  membutuhkan  ASI dan makanan lebih banyak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181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anfaat terbesar dari pemijatan yang dilakukan setiap hari adalah dalam 6 atau 7 bulan  pertama. Pemijatan dapat dilakuan hingga 36 bulan, beberapa ahli membolehkan lebih dari itu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KEUNTUNGAN  MEMIJAT: BAYI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emacu sistem sirkulasi dan denyut jantung, pernafasan, pencernaan dan sistem kekebalan tubuh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endidik  untuk lebih tenang dalam menghadapi  st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endorong pertumbuhan susunan otot dan kelenturan yang akan membantu dalam  pertumbuhan  kemampuan fisik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angat berarti untuk  persiapan tubuh dalam berbagai kegiatan, serta meningkatkan gerakan dan ketenanga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KEUNTUNGAN  MEMIJAT: ORANG TUAI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beri pengetahuan yang besar pada ortu, untuk memahami anak merek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agi seorang ibu akan membantu untuk melancarkan ASI, sehingga membantu dalam produksi ASI maupun kemampuan ibu mendapatkan ketenanga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WAKTU MEMIJAT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aktu memijat dapat dilakukan pada pagi dan malam hari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IDAK DIANJURKA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Pemijatan langsung sehabis makan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bangunkan bayi untuk dipij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ijat bayi saat sedang saki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ijat manakala tidak mau dipij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-2707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aksakan posisi tertentu ketika memij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PERSIAPAN MEMIJIT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angan bersih dan hang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Kuku tidak melukai bay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uangan: hangat, tidak pengap, segar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ayi tidak sehabis makan atau sedang lapar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iapkan  waktu selama 15 meni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DIANJURKAN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Kontak mat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rnyanyi, bercerita, komunikas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ulai dengan sentuhan ringan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anggap akan isaratnya:suka, tidak  suka, bosan, menolak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andikan  sesudah dipija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23:29:30Z</dcterms:created>
  <dc:creator>bsbowo</dc:creator>
  <dc:description/>
  <dc:language>en-US</dc:language>
  <cp:lastModifiedBy>bsbowo</cp:lastModifiedBy>
  <dcterms:modified xsi:type="dcterms:W3CDTF">2000-03-17T00:50:08Z</dcterms:modified>
  <cp:revision>9</cp:revision>
  <dc:subject/>
  <dc:title>INDIKATOR  NORMAL PERKEMBANGAN FUNGSI TUBUH</dc:title>
</cp:coreProperties>
</file>