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9CA-C128-42AE-B87D-3962AD32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047-D5FF-40D4-980E-2AE8A8CE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85E-CC77-436E-879C-C3C14BED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DD6-8134-4767-92FA-50EDBAC9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344-F6B2-4687-9405-FBAE9850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F4F-76B1-48EF-8546-BA788D81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8BD-4E6A-4A66-81D6-DB350B21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5CB-B7E9-4C8F-AEBC-E9D29E4F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DAF9-BABA-406C-A87C-0B5E4B8B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A7D-0496-4770-81B9-85B1D3B6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552-15F8-4E8F-B94A-309B382C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09C-4099-4492-9467-498CBF5E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E6C1-49AE-48CE-B4AF-565FCBD375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7.gif"/><Relationship Id="rId4" Type="http://schemas.openxmlformats.org/officeDocument/2006/relationships/image" Target="../media/image47.gi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260280"/>
            <a:ext cx="5325840" cy="3646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4149720"/>
            <a:ext cx="3597120" cy="2462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4825800" cy="3303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852640"/>
            <a:ext cx="4241520" cy="3678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88920"/>
            <a:ext cx="7772400" cy="4880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49360"/>
            <a:ext cx="376092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549360"/>
            <a:ext cx="3760920" cy="5486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17800" y="685800"/>
            <a:ext cx="510840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476280"/>
            <a:ext cx="2920680" cy="4262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1052640"/>
            <a:ext cx="5222880" cy="5486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620640"/>
            <a:ext cx="376092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620640"/>
            <a:ext cx="3760920" cy="5486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3480" y="685800"/>
            <a:ext cx="547524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706320"/>
            <a:ext cx="7772400" cy="5443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5680" y="685800"/>
            <a:ext cx="609264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858960"/>
            <a:ext cx="7772400" cy="5138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3284640"/>
            <a:ext cx="3529080" cy="30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33360"/>
            <a:ext cx="4273560" cy="351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60280"/>
            <a:ext cx="5899320" cy="3171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3860640"/>
            <a:ext cx="6910560" cy="2710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06560" y="685800"/>
            <a:ext cx="712944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76400" y="685800"/>
            <a:ext cx="699120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189000"/>
            <a:ext cx="6691320" cy="3954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4508640"/>
            <a:ext cx="6985080" cy="2009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404640"/>
            <a:ext cx="3805200" cy="4105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421000"/>
            <a:ext cx="4259520" cy="41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38240" y="685800"/>
            <a:ext cx="706608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95560" y="685800"/>
            <a:ext cx="495144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17600" y="685800"/>
            <a:ext cx="470880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85800"/>
            <a:ext cx="735480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04920"/>
            <a:ext cx="7924680" cy="6024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908000" y="530064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247760"/>
            <a:ext cx="7772400" cy="4361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47760"/>
            <a:ext cx="7772400" cy="4361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725400"/>
            <a:ext cx="7772400" cy="540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000080"/>
            <a:ext cx="7772400" cy="4857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9:11:59Z</dcterms:created>
  <dc:creator>Jerry</dc:creator>
  <dc:description>Reworked: Bob Deveen</dc:description>
  <dc:language>en-US</dc:language>
  <cp:lastModifiedBy>Smets</cp:lastModifiedBy>
  <dcterms:modified xsi:type="dcterms:W3CDTF">2008-09-12T19:16:50Z</dcterms:modified>
  <cp:revision>6</cp:revision>
  <dc:subject/>
  <dc:title>Galapagos Island</dc:title>
</cp:coreProperties>
</file>