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9777-10CF-4E18-A54B-966B86E7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640-B792-4A86-814A-7C566460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8F4-9A0C-40D6-B3BF-4E95EAE97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E8C-B376-4924-91A3-1E088AE4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D33-691B-42DB-A0AD-EC3730C8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64F-A983-4967-B750-346F6771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D2A-5640-4012-8013-6A08B944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54E-CF0B-4569-93C6-E58DACD8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610-0C29-4BEB-9C54-C33B946E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2761-0DDB-40B2-9182-6267889D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A37-FF55-4DE8-BC65-E3E78B89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5D3-186E-4C5E-8437-46DE82E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0F43-BBBC-4009-A85F-A293E00041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jpeg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260280"/>
            <a:ext cx="5325840" cy="3646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92720" y="4149720"/>
            <a:ext cx="3597120" cy="2462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4825800" cy="3303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2852640"/>
            <a:ext cx="4241520" cy="36784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88920"/>
            <a:ext cx="7772400" cy="4880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49360"/>
            <a:ext cx="37609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59280" y="549360"/>
            <a:ext cx="3760920" cy="548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17800" y="685800"/>
            <a:ext cx="510840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76280"/>
            <a:ext cx="2920680" cy="426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1052640"/>
            <a:ext cx="5222880" cy="548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620640"/>
            <a:ext cx="37609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620640"/>
            <a:ext cx="3760920" cy="548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3480" y="685800"/>
            <a:ext cx="54752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706320"/>
            <a:ext cx="7772400" cy="54435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5680" y="685800"/>
            <a:ext cx="60926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858960"/>
            <a:ext cx="7772400" cy="5138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3284640"/>
            <a:ext cx="3529080" cy="3031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33360"/>
            <a:ext cx="4273560" cy="351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260280"/>
            <a:ext cx="5899320" cy="3171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8000" y="3860640"/>
            <a:ext cx="6910560" cy="2710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06560" y="685800"/>
            <a:ext cx="71294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76400" y="685800"/>
            <a:ext cx="699120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189000"/>
            <a:ext cx="6691320" cy="3954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508640"/>
            <a:ext cx="6985080" cy="2009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404640"/>
            <a:ext cx="3805200" cy="4105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2421000"/>
            <a:ext cx="4259520" cy="41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38240" y="685800"/>
            <a:ext cx="706608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5560" y="685800"/>
            <a:ext cx="495144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17600" y="685800"/>
            <a:ext cx="470880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85800"/>
            <a:ext cx="735480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304920"/>
            <a:ext cx="7924680" cy="602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08000" y="530064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247760"/>
            <a:ext cx="7772400" cy="4361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768240"/>
            <a:ext cx="7772400" cy="5321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247760"/>
            <a:ext cx="7772400" cy="4361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725400"/>
            <a:ext cx="7772400" cy="5407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000080"/>
            <a:ext cx="7772400" cy="4857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9:11:59Z</dcterms:created>
  <dc:creator>Jerry</dc:creator>
  <dc:description>Reworked: Bob Deveen</dc:description>
  <dc:language>en-US</dc:language>
  <cp:lastModifiedBy>Smets</cp:lastModifiedBy>
  <dcterms:modified xsi:type="dcterms:W3CDTF">2008-09-12T19:16:50Z</dcterms:modified>
  <cp:revision>6</cp:revision>
  <dc:subject/>
  <dc:title>Galapagos Island</dc:title>
</cp:coreProperties>
</file>