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88D-8A8F-4F13-869C-FF91294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D7C-18D6-4ED2-A307-601E7C0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059-364E-4ADC-A486-C005A06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1FD-E040-48BA-A4AC-60CE5A50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037-FC7F-44FD-8E65-DB29DA93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5A75-7451-4A7A-ADC7-0BD612B6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D7CD-1E12-4D66-8756-0C965876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7926-FCA9-4F26-86C9-FB86795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B388-E0AC-4396-A15A-EBF0663E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754-12E3-4620-8C89-4B88FFF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D6DB-F414-4275-A79D-44BE751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A10-46B6-4898-B525-472673E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26A-578F-489E-BAC9-DA5CC11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F6D-F9B3-42B6-AC64-D2E47BE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22E3-6303-42A8-BC85-5913D16B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D8E9-F695-44C6-A986-EA43A7CE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68E-25B8-4752-99D4-E2011CC7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109B-40C3-4D75-8971-1952253E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9DB8-B845-4F7C-9F2A-6FE3A00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8A63-0798-4C66-98D7-73A3884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1517-E444-4790-89FC-90B1E58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136F-EEFB-468B-903F-98A5BA22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ACB-4806-49B9-A063-CD95DE5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C83C-3BD5-4C53-86AC-FADEA5F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8FB9-9D05-48E9-AD6F-1FB8A8D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A98B-C842-44D2-94FE-68B0534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CA09-D08D-4D8B-BFE8-E6212731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0081-6EB5-45D6-AF52-6731264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85F2-9189-4BF5-AB25-59A05524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4209-5D69-4E00-8614-BFD04D75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D495-3338-4569-8EE1-88B49A4A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2A27-E425-4253-88E4-B61337EB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A373-8479-46BB-A7DB-F5B5C04F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DDD-4CA2-4FEA-A51D-B96706C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C065-1A77-4DC8-AE78-76CBBC4D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D8EF-6897-4CA6-A409-03C47ED6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7C37-D050-414E-A0DE-E3095093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B043-8797-4CC6-9CD4-6A4BF3D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3FC0-6F9F-4844-9148-05A5C56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BCC3-BEAD-47E0-8B4F-A0D05BC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49B2-7E17-4502-896D-4E0AEC7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5469-6507-40C7-A576-2D3DFB45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62D4-D1C4-4C4C-BE31-B67C51BB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D76-31D4-440B-932F-C22CC14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344-7EF9-4EBE-A02D-2C7DC87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A23-3B76-4386-999E-71044EF4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137-D68E-47FB-BB72-F5A1F70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530-A0F8-4F1E-AD62-A960129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081-1C67-465D-848D-E351FA42F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C9C-559E-4231-BEFB-B17AB513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EB0-F9D5-4C79-A18A-973F902E6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23F-FA6F-40EA-AC59-49A9A850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hthalmic.hyperguides.com/tutorials/retina/Retinal_Artery_Obstruction/slide1.asp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cis.lv/image/brao.jpg&amp;imgrefurl=http://www.acis.lv/tiklartemb.htm&amp;h=208&amp;w=216&amp;sz=8&amp;hl=en&amp;start=9&amp;tbnid=KLkrzWsJ9aye0M:&amp;tbnh=103&amp;tbnw=107&amp;prev=/images%3Fq%3DBRAO%26svnum%3D10%26hl%3Den%26rls%3DGGLG,GGLG:2006-05,GGLG: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9920" y="2130120"/>
            <a:ext cx="6702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Acute Visual Lo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201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Optic Nerve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830160"/>
            <a:ext cx="884412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diopathic or associated with multiple scle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ou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creased visual acuity and colou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in with ocular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ulbar (disc swelling) or retrobulbar (normal di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umatic optic neuro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trauma to 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: shearing force to the vascula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201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Visual Pathway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80880"/>
            <a:ext cx="902016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mian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uses: vascular or tu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tical Blind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ka central or cereb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tensive bilateral damage to cerebral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rmal pupillary reactions and f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1695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H &amp; P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ity of visual loss compared to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cular vs. binocula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ssociated sympto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htho e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acu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illary re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light or slit lamp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oc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hthalom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d re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ssessment of clarity of     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rect inspection of the fun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0492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97360"/>
            <a:ext cx="902016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edia Opa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3520" y="947880"/>
            <a:ext cx="54100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neal edem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ound glas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/O AA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neal abra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phem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tic, sponta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treous hemor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rkening of red reflex with clear lens, AC and cor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tinal neovascu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Slide 1"/>
          <p:cNvPicPr/>
          <p:nvPr/>
        </p:nvPicPr>
        <p:blipFill>
          <a:blip r:embed="rId2"/>
          <a:stretch/>
        </p:blipFill>
        <p:spPr>
          <a:xfrm>
            <a:off x="5357880" y="281160"/>
            <a:ext cx="3786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48040"/>
            <a:ext cx="90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tinal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020240"/>
            <a:ext cx="6964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tinal de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ashes, floaters, shade ov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PD (if extensive 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levated retina +/-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cular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rease central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tamorphop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213520" y="3589200"/>
            <a:ext cx="39304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2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entral Retinal Artery Occlusion (CR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074240"/>
            <a:ext cx="543564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phthalmic emergenc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den painless and often severe visual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damage to the ganglion cells caused by prolonged interruption of retinal arterial bloo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 “ cherry-red spo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ptic disc swelling unless there is ophthalmic or carotid artery oc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s later, pale disc due to death of ganglion cells and their a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Slide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7560" y="1093680"/>
            <a:ext cx="3376440" cy="25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Slide 1"/>
          <p:cNvPicPr/>
          <p:nvPr/>
        </p:nvPicPr>
        <p:blipFill>
          <a:blip r:embed="rId4"/>
          <a:stretch/>
        </p:blipFill>
        <p:spPr>
          <a:xfrm>
            <a:off x="5824440" y="3900600"/>
            <a:ext cx="33195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201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entral Retinal Artery Occlusion (CRAO)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91880"/>
            <a:ext cx="902016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lar ma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islodge a small embolus in CRA and restore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sing firmly for 10 seconds and then releasing for 10 seconds over a period of 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lar hypotensives, vasodilators, paracentesis of anterior 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O giant cell arteritis in elderly patient without a visible em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902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ranch Retinal Artery Occlusion (BR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4659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 of the retina is opacified and vision is partially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ten d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as CR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65600" y="282564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20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entral Retinal Vein Occlusion (CR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917640"/>
            <a:ext cx="5651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acute loss of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 swelling, venous engorgement, cotton-wool spots and diffuse retinal hemorrh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factors: age, HTN, arteriosclerotic vascular disease, conditions that increase blood viscosity (polycythemia vera, sickle cell disease, lymphoma , leuk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medic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risk for neovascular glaucoma, so periodic ophtho f/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Slide 1"/>
          <p:cNvPicPr/>
          <p:nvPr/>
        </p:nvPicPr>
        <p:blipFill>
          <a:blip r:embed="rId2"/>
          <a:stretch/>
        </p:blipFill>
        <p:spPr>
          <a:xfrm>
            <a:off x="5638680" y="3803760"/>
            <a:ext cx="35053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20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Optic Nerve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66400"/>
            <a:ext cx="55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Arteritic Ischemic Optic Neuropathy (NA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scular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e, swollen disc +/- splinter hemor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VA , VF ( often altitudina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teritic Ischemic Optic Neuropathy (A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s of giant cell arte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R, CRP, Platelets +/_ TA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: systemic stero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lide 1"/>
          <p:cNvPicPr/>
          <p:nvPr/>
        </p:nvPicPr>
        <p:blipFill>
          <a:blip r:embed="rId2"/>
          <a:stretch/>
        </p:blipFill>
        <p:spPr>
          <a:xfrm>
            <a:off x="5562720" y="4336920"/>
            <a:ext cx="3581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7:18:59Z</dcterms:created>
  <dc:creator>o</dc:creator>
  <dc:description/>
  <dc:language>en-US</dc:language>
  <cp:lastModifiedBy>o</cp:lastModifiedBy>
  <dcterms:modified xsi:type="dcterms:W3CDTF">2011-06-11T17:34:00Z</dcterms:modified>
  <cp:revision>13</cp:revision>
  <dc:subject/>
  <dc:title>Slide 1</dc:title>
</cp:coreProperties>
</file>