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463-B6C5-42B7-B06E-1CE9CEC3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F01-A03B-4790-9C47-BF601A8B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4B5-EB8A-4BF6-93C0-A48E5419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08D-E4A8-4597-9F53-0D1D6132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1016-BE23-45DF-A127-E43AD868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61A4-1EF8-442B-A36E-AB413E71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CE95-FE61-48E6-9991-99C20363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7C17-DB63-400F-B466-5674026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DEA6-E3C4-46C2-A492-5292EAED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9426-7F50-43EC-BA52-5C897E47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98AF-5DE0-4A7B-B447-F149F14C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C8B-4830-4D17-9C07-2DD2E830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59F0-1721-450B-9CF5-3AE2997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026B-22BC-498C-BB93-964C2A68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460B-7C20-4437-99C0-0BAE1C62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4CBC-2CD6-4187-9F99-D1616C98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84F2-39CA-43FB-8502-167DF993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0BA8-A915-444B-A3AA-E0053373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CE92-6FCC-470B-B7B4-9A6FEA8D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64629-7826-45D1-9FB9-FD6C5C2A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7EDF-A87C-4DA2-AC31-59B6C298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34176-C18C-4AFC-956D-66E36EA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8E8-69ED-47F4-9AAD-3C71773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0978D-E29A-496B-A690-AE71E1EB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EAE3B-ED3D-4FF1-9258-A50DE5E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4233-3388-4FDB-B2E4-F77802B0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10E6-4AD2-44BF-9B0B-78D4CFBC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4B810-097F-41D8-874C-E2CE134C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B1CC-86BB-4CAE-B061-FD37492F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BEF6-FD0A-443F-8DF6-DA0B842C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7939D-6D03-4464-967F-212F7A7B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3FA5-0F39-4961-8D21-3EB0B464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4CF0-6184-4E9B-A27E-278F4661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955-9EAC-4BE9-A9C9-A4B61268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BD10-7F6D-465D-8E33-7BD819E1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5950-92B8-4292-B85F-7B257C5F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DCA3D-617E-4E52-B26D-37CE03EE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A654-B0BF-4B13-BE25-9A37D76F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E80FF-B245-49A1-BB9E-9AED8D15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049D-F7BF-4C84-94E5-F6B00BD1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8ECF-BD48-488A-ADCA-1CDD7259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3F089-0E82-4080-904B-2FC8937B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8C50-6564-49B5-9B07-014E5380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2B0-68F9-4A45-B5B1-C8F50C44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CC5-1BF7-4DD9-AAE2-48A5AE3C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4C0-C722-4002-BF3A-3E8943B8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B85-2162-449C-AC49-8F1394F5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2D9-F78E-42EE-BAE8-75FB5018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C0A4-2A87-4EB8-90EF-55430CA36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DD11-A910-4E7D-9F10-F3300CDC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BEDE-5B66-4209-8D9C-A10709EBD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EA0A-8D3F-4F8E-BE67-5FDD9B1A7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phthalmic.hyperguides.com/tutorials/retina/Retinal_Artery_Obstruction/slide1.asp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cis.lv/image/brao.jpg&amp;imgrefurl=http://www.acis.lv/tiklartemb.htm&amp;h=208&amp;w=216&amp;sz=8&amp;hl=en&amp;start=9&amp;tbnid=KLkrzWsJ9aye0M:&amp;tbnh=103&amp;tbnw=107&amp;prev=/images%3Fq%3DBRAO%26svnum%3D10%26hl%3Den%26rls%3DGGLG,GGLG:2006-05,GGLG:e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9920" y="2130120"/>
            <a:ext cx="6702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Acute Visual Lo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0201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Optic Nerve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830160"/>
            <a:ext cx="8844120" cy="38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c neur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diopathic or associated with multiple scle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young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creased visual acuity and colour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A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in with ocular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ulbar (disc swelling) or retrobulbar (normal di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umatic optic neuro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rect trauma to 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irect : shearing force to the vascular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201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Visual Pathway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280880"/>
            <a:ext cx="902016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mian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auses: vascular or tum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rtical Blind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ka central or cereb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xtensive bilateral damage to cerebral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rmal pupillary reactions and fu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8320" y="304920"/>
            <a:ext cx="1695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H &amp; P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ity of visual loss compared to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cular vs. binocula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associated sympto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htho e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acuity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pillary re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light or slit lamp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ocula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hthalom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d re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ssessment of clarity of     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rect inspection of the fun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04920"/>
            <a:ext cx="358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297360"/>
            <a:ext cx="902016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Media Opa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3520" y="947880"/>
            <a:ext cx="54100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rneal edem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round glass 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R/O AA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rneal abra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phem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raumatic, sponta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itreous hemorrh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arkening of red reflex with clear lens, AC and cor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rauma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tinal neovascu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Slide 1"/>
          <p:cNvPicPr/>
          <p:nvPr/>
        </p:nvPicPr>
        <p:blipFill>
          <a:blip r:embed="rId2"/>
          <a:stretch/>
        </p:blipFill>
        <p:spPr>
          <a:xfrm>
            <a:off x="5357880" y="281160"/>
            <a:ext cx="37861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248040"/>
            <a:ext cx="90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etinal Dis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020240"/>
            <a:ext cx="69642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tinal det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lashes, floaters, shade ove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APD (if extensive 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levated retina +/- 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cular dis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crease central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etamorphop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213520" y="3589200"/>
            <a:ext cx="39304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2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entral Retinal Artery Occlusion (CR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074240"/>
            <a:ext cx="543564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ophthalmic emergenc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den painless and often severe visual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damage to the ganglion cells caused by prolonged interruption of retinal arterial blood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 “ cherry-red spot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ptic disc swelling unless there is ophthalmic or carotid artery oc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s later, pale disc due to death of ganglion cells and their ax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Slide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67560" y="1093680"/>
            <a:ext cx="3376440" cy="2592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Slide 1"/>
          <p:cNvPicPr/>
          <p:nvPr/>
        </p:nvPicPr>
        <p:blipFill>
          <a:blip r:embed="rId4"/>
          <a:stretch/>
        </p:blipFill>
        <p:spPr>
          <a:xfrm>
            <a:off x="5824440" y="3900600"/>
            <a:ext cx="33195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0201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entral Retinal Artery Occlusion (CRAO)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091880"/>
            <a:ext cx="9020160" cy="32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ular ma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dislodge a small embolus in CRA and restore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ssing firmly for 10 seconds and then releasing for 10 seconds over a period of 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ular hypotensives, vasodilators, paracentesis of anterior cha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O giant cell arteritis in elderly patient without a visible emb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83680"/>
            <a:ext cx="90201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ranch Retinal Artery Occlusion (BR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4659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 of the retina is opacified and vision is partially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ten du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o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 as CR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65600" y="2825640"/>
            <a:ext cx="44784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20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entral Retinal Vein Occlusion (CR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917640"/>
            <a:ext cx="565164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acute loss of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 swelling, venous engorgement, cotton-wool spots and diffuse retinal hemorrh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factors: age, HTN, arteriosclerotic vascular disease, conditions that increase blood viscosity (polycythemia vera, sickle cell disease, lymphoma , leukem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medical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risk for neovascular glaucoma, so periodic ophtho f/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Slide 1"/>
          <p:cNvPicPr/>
          <p:nvPr/>
        </p:nvPicPr>
        <p:blipFill>
          <a:blip r:embed="rId2"/>
          <a:stretch/>
        </p:blipFill>
        <p:spPr>
          <a:xfrm>
            <a:off x="5638680" y="3803760"/>
            <a:ext cx="35053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20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Optic Nerve Dis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66400"/>
            <a:ext cx="55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n-Arteritic Ischemic Optic Neuropathy (NA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ascular dis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e, swollen disc +/- splinter hemorrh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VA , VF ( often altitudina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teritic Ischemic Optic Neuropathy (A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s of giant cell arter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R, CRP, Platelets +/_ TA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x : systemic stero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Slide 1"/>
          <p:cNvPicPr/>
          <p:nvPr/>
        </p:nvPicPr>
        <p:blipFill>
          <a:blip r:embed="rId2"/>
          <a:stretch/>
        </p:blipFill>
        <p:spPr>
          <a:xfrm>
            <a:off x="5562720" y="4336920"/>
            <a:ext cx="3581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17:18:59Z</dcterms:created>
  <dc:creator>o</dc:creator>
  <dc:description/>
  <dc:language>en-US</dc:language>
  <cp:lastModifiedBy>o</cp:lastModifiedBy>
  <dcterms:modified xsi:type="dcterms:W3CDTF">2011-06-11T17:34:00Z</dcterms:modified>
  <cp:revision>13</cp:revision>
  <dc:subject/>
  <dc:title>Slide 1</dc:title>
</cp:coreProperties>
</file>