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Les%20choristes%20-%20Sentier%20de%20gloire.wav" ContentType="audio/x-wav"/>
  <Override PartName="/ppt/media/image13.jpeg" ContentType="image/jpeg"/>
  <Override PartName="/ppt/media/image30.gif" ContentType="image/gif"/>
  <Override PartName="/ppt/media/image14.jpeg" ContentType="image/jpeg"/>
  <Override PartName="/ppt/media/image4.gif" ContentType="image/gif"/>
  <Override PartName="/ppt/media/image10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6.png" ContentType="image/png"/>
  <Override PartName="/ppt/media/image33.gif" ContentType="image/gif"/>
  <Override PartName="/ppt/media/image3.gif" ContentType="image/gif"/>
  <Override PartName="/ppt/media/image19.jpeg" ContentType="image/jpeg"/>
  <Override PartName="/ppt/media/image3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AE5-0572-4830-B8D0-680321F2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50C-1D87-41D0-8424-B3A6DFBE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6C9-AB00-4E0F-B169-FE209B66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D32-E042-4FFC-9783-40139EC0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14A-DC8F-455E-9B01-8863BAB4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481-B5AA-4903-BF43-1B54FA46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FC2-526A-4D0D-BCBF-7C91E52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31D-DA4D-45C9-AE43-127946BA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4B1-D3D6-4B49-8EDD-3D57866F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713-745E-4065-AE13-715B7AF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965-FCC1-4498-B792-0456783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1FE-3D49-4209-8694-446B349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0513-34E6-4ACA-B8C4-F202A3F3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es%20choristes%20-%20Sentier%20de%20gloir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0360" y="333360"/>
            <a:ext cx="6443640" cy="5977080"/>
          </a:xfrm>
          <a:prstGeom prst="verticalScroll">
            <a:avLst>
              <a:gd name="adj" fmla="val 12500"/>
            </a:avLst>
          </a:prstGeom>
          <a:solidFill>
            <a:srgbClr val="00ffff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0" y="1628640"/>
            <a:ext cx="2647800" cy="10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François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08720" y="3357720"/>
            <a:ext cx="666720" cy="47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788000" y="4437000"/>
            <a:ext cx="21812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ivaldi"/>
              </a:rPr>
              <a:t>Présente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</p:spTree>
  </p:cSld>
  <p:transition advTm="5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00" y="-738360"/>
            <a:ext cx="9468000" cy="833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468360" y="-1035000"/>
            <a:ext cx="9936360" cy="894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1125360"/>
            <a:ext cx="210492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élie Maures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844640"/>
            <a:ext cx="34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 classée actuelleme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2637000"/>
            <a:ext cx="23144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méro un à l'AT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3429000"/>
            <a:ext cx="2295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t vient de gagn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4221000"/>
            <a:ext cx="138096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mbled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4941720"/>
            <a:ext cx="32860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uxième Françai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5877000"/>
            <a:ext cx="3714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l'avoir gagné depuis 19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876240"/>
            <a:ext cx="9468000" cy="8610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erci à toi, Amélie, malgré tout ce que l’on peut dire sur toi 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28861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635280" y="620640"/>
            <a:ext cx="44481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Amélie Mauresmo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2920" y="5734080"/>
            <a:ext cx="7372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illeure joueuse de tennis en France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 spokes="3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318132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708360" y="549360"/>
            <a:ext cx="424836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Fabuleux destin</a:t>
            </a:r>
            <a:endParaRPr b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76720" y="5734080"/>
            <a:ext cx="47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'amélie Maure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wheel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858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3203640" y="404640"/>
            <a:ext cx="57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francois296@wanadoo.fr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95640" y="1628640"/>
            <a:ext cx="444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ur votre plaisi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451640" y="4724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582040" y="170028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11280" y="4365720"/>
            <a:ext cx="1752480" cy="134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419640" y="2492280"/>
            <a:ext cx="3047760" cy="3524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 advTm="10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4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  <p:sndAc>
      <p:stSnd>
        <p:snd r:embed="rId2" name="Les%20choristes%20-%20Sentier%20de%20gloir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816200" cy="2260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87344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67280" y="333360"/>
            <a:ext cx="2735280" cy="194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9640" y="3948120"/>
            <a:ext cx="2160720" cy="2144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719280"/>
            <a:ext cx="9540720" cy="829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7:00:33Z</dcterms:created>
  <dc:creator>PERJOIS François</dc:creator>
  <dc:description/>
  <dc:language>en-US</dc:language>
  <cp:lastModifiedBy>Smets</cp:lastModifiedBy>
  <dcterms:modified xsi:type="dcterms:W3CDTF">2009-08-30T03:52:02Z</dcterms:modified>
  <cp:revision>22</cp:revision>
  <dc:subject/>
  <dc:title>Diapositive 1</dc:title>
</cp:coreProperties>
</file>