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4D6-05D3-4EAE-AE4A-CBAE2A03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ECB-231C-4F3B-A926-5D269D7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211-23F7-40CD-B0E7-E7618975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8D9-67B5-4B9F-ABC2-AD2E6A13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1B0-1876-45ED-B3DD-2EA1AFE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CC9-90BE-47BF-A957-51F9811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86D-5B92-4306-AA2F-27906BDA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38F-1C64-4D9F-A1CE-2BAE832C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DEC-1A11-497B-99EB-E17DD10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0B2-2411-48CA-B0A8-7DFDFEE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D46-B7FE-401B-A561-737DB6C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1F3-1607-4AFB-8818-DCDA1DA0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454D-A507-4640-9C2B-564508D4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ers/drbudi/Documents/KP%20katarak/sics1.wmv" TargetMode="External"/><Relationship Id="rId2" Type="http://schemas.openxmlformats.org/officeDocument/2006/relationships/hyperlink" Target="file:///Users/drbudi/Documents/KP%20katarak/phaco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755640" y="12682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Tempus Sans ITC"/>
              </a:rPr>
              <a:t>C A T A R A C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684360" y="3068640"/>
            <a:ext cx="81198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T. Budi Sulistya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Anny Sulistiyowati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istral"/>
              </a:rPr>
              <a:t>Dr. Sony Agung Santoso, Sp.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empus Sans ITC"/>
              </a:rPr>
              <a:t>Laboratorium/SMF Ilmu Kesehatan 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empus Sans ITC"/>
              </a:rPr>
              <a:t>FK  Unibraw/RSU Dr. Saiful Anwar  Ma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1_line_misc_6d.gif"/>
          <p:cNvPicPr/>
          <p:nvPr/>
        </p:nvPicPr>
        <p:blipFill>
          <a:blip r:embed="rId1"/>
          <a:stretch/>
        </p:blipFill>
        <p:spPr>
          <a:xfrm>
            <a:off x="1500120" y="2565360"/>
            <a:ext cx="73580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OCSIII.jpg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11280" y="4046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AGES OF SENILE  CATARA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201760" y="1849320"/>
            <a:ext cx="501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INS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IMM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M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dium HYPER MA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4046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ISK FAC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1628640"/>
            <a:ext cx="820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gs:  corticosteroid, phenothiazine, chlorprom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violet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k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468360" y="484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IAGNOSIS &amp; EX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880" y="1752480"/>
            <a:ext cx="838224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disturbance: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: - opacity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ed contrast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mbination 2 &amp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11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Diplopia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00" y="195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A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1143000"/>
            <a:ext cx="876312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: natural, best cor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pilary  dila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copic evaluation :                                                         – Examine with ophthalmoscope                                – Black spot over orange background (insipient –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ature)                                                                         – Negative (ma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84360" y="9079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dditio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84360" y="1844640"/>
            <a:ext cx="705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ocular pres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tometry and bi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inome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st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stas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IMG_0001.jpg"/>
          <p:cNvPicPr/>
          <p:nvPr/>
        </p:nvPicPr>
        <p:blipFill>
          <a:blip r:embed="rId1"/>
          <a:srcRect l="3170" t="9532" r="60696" b="30364"/>
          <a:stretch/>
        </p:blipFill>
        <p:spPr>
          <a:xfrm rot="16200000">
            <a:off x="2912040" y="-1974240"/>
            <a:ext cx="3384360" cy="771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_0004.jpg"/>
          <p:cNvPicPr/>
          <p:nvPr/>
        </p:nvPicPr>
        <p:blipFill>
          <a:blip r:embed="rId2"/>
          <a:srcRect l="2782" t="16892" r="60315" b="52251"/>
          <a:stretch/>
        </p:blipFill>
        <p:spPr>
          <a:xfrm rot="16200000">
            <a:off x="3068640" y="3419280"/>
            <a:ext cx="30877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IMG_0003.jpg"/>
          <p:cNvPicPr/>
          <p:nvPr/>
        </p:nvPicPr>
        <p:blipFill>
          <a:blip r:embed="rId1"/>
          <a:srcRect l="14261" t="2067" r="10789" b="14033"/>
          <a:stretch/>
        </p:blipFill>
        <p:spPr>
          <a:xfrm rot="10800000">
            <a:off x="2410920" y="188640"/>
            <a:ext cx="424836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11280" y="620640"/>
            <a:ext cx="3600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55640" y="1557360"/>
            <a:ext cx="63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on Sur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tacl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nification / visual 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priate illu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55640" y="4299120"/>
            <a:ext cx="633744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Sur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visual fu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 : Secondary glau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cation of 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71640" y="2133720"/>
            <a:ext cx="7704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Impai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Responsible for the patient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s disability in desired activity (driving, reading, occupational nee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8" descr="RF-1"/>
          <p:cNvPicPr/>
          <p:nvPr/>
        </p:nvPicPr>
        <p:blipFill>
          <a:blip r:embed="rId1"/>
          <a:stretch/>
        </p:blipFill>
        <p:spPr>
          <a:xfrm>
            <a:off x="71280" y="1752480"/>
            <a:ext cx="4800600" cy="4638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5000760" y="1600200"/>
            <a:ext cx="42955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conv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ness: 4 mm, diameter 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 : aqueous hum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: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on: suspensory ligament (zonula) zi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6094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NATOMY Of EYE &amp; L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468360" y="231840"/>
            <a:ext cx="828036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disability increases due to glare or dim illu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Patient complains of monocular diplopia or poly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Visual disparity exists between two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900000" y="836640"/>
            <a:ext cx="748836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2. Other ind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Lens induced diseases : phacomorphic glaucoma, phacolytic glau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S PGothic"/>
              </a:rPr>
              <a:t>Concomitant ocular disease that requires clear media: required to adequately diagnose diabetic retin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7240" y="38088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. Stadium INS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362240"/>
            <a:ext cx="69339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 can b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ty starts as a line at lens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l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 zone st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be stat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Katarak 181001"/>
          <p:cNvPicPr/>
          <p:nvPr/>
        </p:nvPicPr>
        <p:blipFill>
          <a:blip r:embed="rId1"/>
          <a:stretch/>
        </p:blipFill>
        <p:spPr>
          <a:xfrm>
            <a:off x="4143240" y="2571840"/>
            <a:ext cx="4924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04920" y="30492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Stadium IMM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absorbs wat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lg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aucom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27" descr="RF-IV-4"/>
          <p:cNvPicPr/>
          <p:nvPr/>
        </p:nvPicPr>
        <p:blipFill>
          <a:blip r:embed="rId1"/>
          <a:srcRect l="13847" t="-1519" r="13847" b="0"/>
          <a:stretch/>
        </p:blipFill>
        <p:spPr>
          <a:xfrm>
            <a:off x="4576680" y="2209680"/>
            <a:ext cx="4496040" cy="4157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285840" y="2286000"/>
            <a:ext cx="4214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:  5/6  -  1/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 reflex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ty not ho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shadow test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tion for surgery  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571680" y="1082520"/>
            <a:ext cx="77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cuity 1/60 - LP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us reflex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shadow test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vious indication for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RF-IV-5"/>
          <p:cNvPicPr/>
          <p:nvPr/>
        </p:nvPicPr>
        <p:blipFill>
          <a:blip r:embed="rId1"/>
          <a:stretch/>
        </p:blipFill>
        <p:spPr>
          <a:xfrm>
            <a:off x="380880" y="3746520"/>
            <a:ext cx="4114800" cy="276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RF-5"/>
          <p:cNvPicPr/>
          <p:nvPr/>
        </p:nvPicPr>
        <p:blipFill>
          <a:blip r:embed="rId2"/>
          <a:stretch/>
        </p:blipFill>
        <p:spPr>
          <a:xfrm>
            <a:off x="4495680" y="3746520"/>
            <a:ext cx="4419720" cy="280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457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Stadium M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0880" y="92160"/>
            <a:ext cx="6620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Stadium HIPERMAT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generation of lens cortex and caps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RF-IV-6"/>
          <p:cNvPicPr/>
          <p:nvPr/>
        </p:nvPicPr>
        <p:blipFill>
          <a:blip r:embed="rId1"/>
          <a:stretch/>
        </p:blipFill>
        <p:spPr>
          <a:xfrm>
            <a:off x="380880" y="3594240"/>
            <a:ext cx="4267440" cy="3263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RF-IV-19"/>
          <p:cNvPicPr/>
          <p:nvPr/>
        </p:nvPicPr>
        <p:blipFill>
          <a:blip r:embed="rId2"/>
          <a:stretch/>
        </p:blipFill>
        <p:spPr>
          <a:xfrm>
            <a:off x="4648320" y="3594240"/>
            <a:ext cx="4267080" cy="3263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380880" y="1523880"/>
            <a:ext cx="84582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22800" indent="-3322800">
              <a:lnSpc>
                <a:spcPct val="120000"/>
              </a:lnSpc>
              <a:tabLst>
                <a:tab algn="l" pos="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hrunken cataract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lens shrinks and thins due to los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2800" indent="-3322800">
              <a:lnSpc>
                <a:spcPct val="120000"/>
              </a:lnSpc>
              <a:tabLst>
                <a:tab algn="l" pos="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orgagnian Catarac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cortex softens and liquefie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nucleus s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F-IV-7"/>
          <p:cNvPicPr/>
          <p:nvPr/>
        </p:nvPicPr>
        <p:blipFill>
          <a:blip r:embed="rId1"/>
          <a:stretch/>
        </p:blipFill>
        <p:spPr>
          <a:xfrm>
            <a:off x="2590920" y="228600"/>
            <a:ext cx="4038480" cy="279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RF-IV-7b"/>
          <p:cNvPicPr/>
          <p:nvPr/>
        </p:nvPicPr>
        <p:blipFill>
          <a:blip r:embed="rId2"/>
          <a:stretch/>
        </p:blipFill>
        <p:spPr>
          <a:xfrm>
            <a:off x="1905120" y="3176640"/>
            <a:ext cx="54864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F-5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030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RF-5"/>
          <p:cNvPicPr/>
          <p:nvPr/>
        </p:nvPicPr>
        <p:blipFill>
          <a:blip r:embed="rId2"/>
          <a:srcRect l="4910" t="0" r="0" b="7927"/>
          <a:stretch/>
        </p:blipFill>
        <p:spPr>
          <a:xfrm>
            <a:off x="4572000" y="2286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b Mata-2"/>
          <p:cNvPicPr/>
          <p:nvPr/>
        </p:nvPicPr>
        <p:blipFill>
          <a:blip r:embed="rId3"/>
          <a:stretch/>
        </p:blipFill>
        <p:spPr>
          <a:xfrm>
            <a:off x="2133720" y="3384720"/>
            <a:ext cx="48765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RF-IV-8a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57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RF-IV-8b"/>
          <p:cNvPicPr/>
          <p:nvPr/>
        </p:nvPicPr>
        <p:blipFill>
          <a:blip r:embed="rId2"/>
          <a:stretch/>
        </p:blipFill>
        <p:spPr>
          <a:xfrm>
            <a:off x="1523880" y="2971800"/>
            <a:ext cx="6400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urgical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4865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 Capsuler Cataract Extraction EC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Expression/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coemul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a Capsuler Cataract Extraction IC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YS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transparency : control water &amp; electroly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hyd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K 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mino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788000" y="227484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227640" y="3141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 &amp;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11640" y="350028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867280" y="4365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 &amp; Vitr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18900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XTRA CAPS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24000" y="1604880"/>
            <a:ext cx="8820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xtra caps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cision 8-10 mm corneo-scl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nterior capsulo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ucleus Expressed from capsular 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sidual cortex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sterior capsule is int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arge incision: suture 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r all kinds of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nual Small Incisi Cataract Surgery (MSIC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755640" y="476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acoemul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1413000"/>
            <a:ext cx="6696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8 – 2.75 m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cor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sulotomy: Continuous Curvelinear          Capsuloreksis 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u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dable 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5320"/>
            <a:ext cx="7772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RA CAPS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00080" y="2209680"/>
            <a:ext cx="7893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s &amp; Capsule int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risk of vitreous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mature &amp; hypermature cata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not be done for congenital &amp; juvenile c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260080" y="45720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TRAOCULAR L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03200" y="1752480"/>
            <a:ext cx="35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Phys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645640" y="34671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More comf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087640" y="4005360"/>
            <a:ext cx="5292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MMA, Silicone, Acry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ide capsular 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 6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pha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3382920" y="2438280"/>
            <a:ext cx="13716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6804000" y="27957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he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pher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904000" y="250668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50920" y="1700280"/>
            <a:ext cx="561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L Anterior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L Posterior Ch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Monof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T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OL Multifocal / acomoda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antc chamber"/>
          <p:cNvPicPr/>
          <p:nvPr/>
        </p:nvPicPr>
        <p:blipFill>
          <a:blip r:embed="rId1"/>
          <a:stretch/>
        </p:blipFill>
        <p:spPr>
          <a:xfrm>
            <a:off x="34920" y="-27000"/>
            <a:ext cx="5257800" cy="3422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fur_sota_lens2"/>
          <p:cNvPicPr/>
          <p:nvPr/>
        </p:nvPicPr>
        <p:blipFill>
          <a:blip r:embed="rId2"/>
          <a:stretch/>
        </p:blipFill>
        <p:spPr>
          <a:xfrm rot="16200000">
            <a:off x="4873320" y="2577960"/>
            <a:ext cx="36007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osterior iol"/>
          <p:cNvPicPr/>
          <p:nvPr/>
        </p:nvPicPr>
        <p:blipFill>
          <a:blip r:embed="rId1"/>
          <a:srcRect l="0" t="3536" r="0" b="4267"/>
          <a:stretch/>
        </p:blipFill>
        <p:spPr>
          <a:xfrm>
            <a:off x="4716360" y="2781360"/>
            <a:ext cx="4176720" cy="388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yellow"/>
          <p:cNvPicPr/>
          <p:nvPr/>
        </p:nvPicPr>
        <p:blipFill>
          <a:blip r:embed="rId2"/>
          <a:srcRect l="11811" t="4724" r="10394" b="5610"/>
          <a:stretch/>
        </p:blipFill>
        <p:spPr>
          <a:xfrm>
            <a:off x="179280" y="30240"/>
            <a:ext cx="439272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371"/>
          <p:cNvPicPr/>
          <p:nvPr/>
        </p:nvPicPr>
        <p:blipFill>
          <a:blip r:embed="rId1"/>
          <a:srcRect l="9094" t="0" r="6772" b="0"/>
          <a:stretch/>
        </p:blipFill>
        <p:spPr>
          <a:xfrm>
            <a:off x="4859280" y="2060640"/>
            <a:ext cx="3854520" cy="4581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foldable-intraocular-lens_10163945"/>
          <p:cNvPicPr/>
          <p:nvPr/>
        </p:nvPicPr>
        <p:blipFill>
          <a:blip r:embed="rId2"/>
          <a:stretch/>
        </p:blipFill>
        <p:spPr>
          <a:xfrm>
            <a:off x="395280" y="18900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rystalens_3d_lens"/>
          <p:cNvPicPr/>
          <p:nvPr/>
        </p:nvPicPr>
        <p:blipFill>
          <a:blip r:embed="rId1"/>
          <a:srcRect l="5962" t="5113" r="3969" b="7211"/>
          <a:stretch/>
        </p:blipFill>
        <p:spPr>
          <a:xfrm>
            <a:off x="108000" y="44280"/>
            <a:ext cx="5256000" cy="3478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alcon-acrysof-restor"/>
          <p:cNvPicPr/>
          <p:nvPr/>
        </p:nvPicPr>
        <p:blipFill>
          <a:blip r:embed="rId2"/>
          <a:stretch/>
        </p:blipFill>
        <p:spPr>
          <a:xfrm>
            <a:off x="3348000" y="3664080"/>
            <a:ext cx="5688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Akreos_lgi"/>
          <p:cNvPicPr/>
          <p:nvPr/>
        </p:nvPicPr>
        <p:blipFill>
          <a:blip r:embed="rId1"/>
          <a:stretch/>
        </p:blipFill>
        <p:spPr>
          <a:xfrm>
            <a:off x="144360" y="144360"/>
            <a:ext cx="3576600" cy="414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9991300_005"/>
          <p:cNvPicPr/>
          <p:nvPr/>
        </p:nvPicPr>
        <p:blipFill>
          <a:blip r:embed="rId2"/>
          <a:stretch/>
        </p:blipFill>
        <p:spPr>
          <a:xfrm>
            <a:off x="3792600" y="3201840"/>
            <a:ext cx="5316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ccommodation 2"/>
          <p:cNvPicPr/>
          <p:nvPr/>
        </p:nvPicPr>
        <p:blipFill>
          <a:blip r:embed="rId1"/>
          <a:stretch/>
        </p:blipFill>
        <p:spPr>
          <a:xfrm>
            <a:off x="1476360" y="725400"/>
            <a:ext cx="63356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one piece"/>
          <p:cNvPicPr/>
          <p:nvPr/>
        </p:nvPicPr>
        <p:blipFill>
          <a:blip r:embed="rId1"/>
          <a:stretch/>
        </p:blipFill>
        <p:spPr>
          <a:xfrm>
            <a:off x="144360" y="144360"/>
            <a:ext cx="4643640" cy="357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iol"/>
          <p:cNvPicPr/>
          <p:nvPr/>
        </p:nvPicPr>
        <p:blipFill>
          <a:blip r:embed="rId2"/>
          <a:stretch/>
        </p:blipFill>
        <p:spPr>
          <a:xfrm>
            <a:off x="4356000" y="3622680"/>
            <a:ext cx="4788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osterior iol"/>
          <p:cNvPicPr/>
          <p:nvPr/>
        </p:nvPicPr>
        <p:blipFill>
          <a:blip r:embed="rId1"/>
          <a:stretch/>
        </p:blipFill>
        <p:spPr>
          <a:xfrm>
            <a:off x="144360" y="14436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mo-tecnis-multifocal-260x203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348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ReSTOR1"/>
          <p:cNvPicPr/>
          <p:nvPr/>
        </p:nvPicPr>
        <p:blipFill>
          <a:blip r:embed="rId3"/>
          <a:stretch/>
        </p:blipFill>
        <p:spPr>
          <a:xfrm>
            <a:off x="4789440" y="2792520"/>
            <a:ext cx="41752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99240" y="47628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4360" y="189000"/>
            <a:ext cx="309564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phthalm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nd l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is  prola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ve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al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003640" y="189000"/>
            <a:ext cx="414036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ous keratopa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located 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reou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roidal hemorrh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F-5"/>
          <p:cNvPicPr/>
          <p:nvPr/>
        </p:nvPicPr>
        <p:blipFill>
          <a:blip r:embed="rId1"/>
          <a:stretch/>
        </p:blipFill>
        <p:spPr>
          <a:xfrm>
            <a:off x="380880" y="380880"/>
            <a:ext cx="4496040" cy="306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RF-5"/>
          <p:cNvPicPr/>
          <p:nvPr/>
        </p:nvPicPr>
        <p:blipFill>
          <a:blip r:embed="rId2"/>
          <a:stretch/>
        </p:blipFill>
        <p:spPr>
          <a:xfrm>
            <a:off x="4114800" y="3505320"/>
            <a:ext cx="4648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RF-5"/>
          <p:cNvPicPr/>
          <p:nvPr/>
        </p:nvPicPr>
        <p:blipFill>
          <a:blip r:embed="rId1"/>
          <a:stretch/>
        </p:blipFill>
        <p:spPr>
          <a:xfrm>
            <a:off x="228600" y="533520"/>
            <a:ext cx="411480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RF-IX-4"/>
          <p:cNvPicPr/>
          <p:nvPr/>
        </p:nvPicPr>
        <p:blipFill>
          <a:blip r:embed="rId2"/>
          <a:stretch/>
        </p:blipFill>
        <p:spPr>
          <a:xfrm>
            <a:off x="4572000" y="533520"/>
            <a:ext cx="4343400" cy="2760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F-IX-7"/>
          <p:cNvPicPr/>
          <p:nvPr/>
        </p:nvPicPr>
        <p:blipFill>
          <a:blip r:embed="rId3"/>
          <a:stretch/>
        </p:blipFill>
        <p:spPr>
          <a:xfrm>
            <a:off x="2209680" y="3505320"/>
            <a:ext cx="4648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705600" y="47628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OST SURGICAL REHAB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16000" y="907920"/>
            <a:ext cx="640872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s compl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of inflam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nd hea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tacle correction/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38800" y="476280"/>
            <a:ext cx="66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UNITY OPHTHAL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116000" y="907920"/>
            <a:ext cx="64087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indness: 1.5 %, cataract 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ing: Dept of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d by: human resourc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al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o-economic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359080" y="47628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cklog Cata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16000" y="907920"/>
            <a:ext cx="741672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ract: 1 % =   2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gical capacity:   80.000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log :              130.000/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ed by: unawareness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st of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h surgical capacity 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468360" y="9079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ophthalmology: elimination catar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434880">
              <a:lnSpc>
                <a:spcPct val="140000"/>
              </a:lnSpc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habil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log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healthcare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health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11600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16000" y="2852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hacoemulsifika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55640" y="1989000"/>
            <a:ext cx="79930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5%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 Protein, mineral, glutathion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, Ascorbic aci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tion: 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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protein : water insolubl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MG_1364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324000" y="5734080"/>
            <a:ext cx="4968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thankyou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692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erglicemi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smotic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2276640"/>
            <a:ext cx="813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tatione peroxid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a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oxide dismutat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4859280" y="256536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3213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5435280" y="2781360"/>
            <a:ext cx="43164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72360" y="2997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oxid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7308720" y="3645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2360" y="44226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a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9720" y="762120"/>
            <a:ext cx="716292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560" y="2196720"/>
            <a:ext cx="6815160" cy="373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bolic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ticoste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58920" y="1052640"/>
            <a:ext cx="74898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6320" indent="-9763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ahoma"/>
              </a:rPr>
              <a:t>PA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enital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clear catar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al Cataract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Subcabsular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Subcapsular Abnormalities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exfoliation &amp; True Exfol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2" descr=""/>
          <p:cNvPicPr/>
          <p:nvPr/>
        </p:nvPicPr>
        <p:blipFill>
          <a:blip r:embed="rId1"/>
          <a:stretch/>
        </p:blipFill>
        <p:spPr>
          <a:xfrm>
            <a:off x="92160" y="890640"/>
            <a:ext cx="9174240" cy="1236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1013040" y="2205000"/>
            <a:ext cx="7027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sion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atomi : Cortical,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tiologic: Radiation&lt; Ste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s Opacities Classific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I to III (LOCS I to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lit-lamp biomicrosc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parately: cortical &amp; subcapsular cata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lour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00:42:12Z</dcterms:created>
  <dc:creator>CHdx</dc:creator>
  <dc:description/>
  <dc:language>en-US</dc:language>
  <cp:lastModifiedBy>Dr. Budi T S SpM</cp:lastModifiedBy>
  <cp:lastPrinted>2001-09-18T21:52:31Z</cp:lastPrinted>
  <dcterms:modified xsi:type="dcterms:W3CDTF">2012-04-30T03:44:22Z</dcterms:modified>
  <cp:revision>152</cp:revision>
  <dc:subject/>
  <dc:title>Syarat Sebelum Operasi</dc:title>
</cp:coreProperties>
</file>