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28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837-AAA4-41B2-AB51-FD9E1F6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552-0636-4E13-9961-9EB37BB5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B17EC-27B4-4768-A0E9-64E1BB3D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A28AA-7B41-4BB7-978C-9FEB09D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C1969-94C3-49C6-B4DE-569C360C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4667F-C367-4186-A9E7-A6DCEC8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1B8E9-49AC-4CD4-A4DF-67F949F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513F0-0C12-4BC5-9FF1-E75548C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B0053-EA29-4F12-AF08-4DF5224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721E8-AE7E-445F-B075-779C5AB1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791B4-EF30-427C-9809-9A0ED8B5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7AA-DF87-4974-863C-EBA722D5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B71-273D-44E4-ADE3-A3C3C3CA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F0F8-8FC5-4259-933E-9B8F8686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5899-8EF0-448F-87B1-FEF40DA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6BC8-9BC4-48AC-AA30-08A269FE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368B-E09F-4F11-820E-C95B724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E958-B27D-4544-B13E-491A5A1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0DC9-0CDC-4999-92B1-E947DC54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D4FF-EF25-420C-A847-A85B76F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765-AF6D-4626-9A23-4BF24D7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57DF-2E69-43F4-A7BE-7765C4F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D31-FEC0-41F7-840D-ED2F7B0C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67F-96EC-41F3-ABEF-24B40E0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D0EE-5707-4661-B76E-182E344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BA2-D4DA-4285-85E3-717CAA2E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A801-B9B0-49C4-8DE9-8EA582B2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C088-FA2B-4A43-8F4B-48C0EB13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EB9C-DF2F-4E3C-BAA6-09A0696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972B-5D9E-446A-B164-3772CC6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A84B-BF3C-4041-A6EB-DC870929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A10-3131-4E9A-91D0-D5BEB2E1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8D69-DE03-44A0-BE4E-DF28BCA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C0B2-E0A7-4F56-8B31-7066BEB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42A8-C300-49E1-A919-6211684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1075-8549-4861-B0EF-4B1B50A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7C2B-7381-4F0D-B69A-5E939929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6B66-18D6-462D-89BE-134AF8F3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EF11-9404-4470-8949-D2ABA213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BEA4-103E-4B00-ADDA-83E43865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7EAC-0F47-4D64-9D7B-681AAA99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9243-1E64-4955-A7C6-04AEC35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977-BCB6-48E8-9A19-B8ADE55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9E0B-EEB4-46F2-8952-E97A895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FC26-685A-40CC-B17F-C446DB9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2BA1-6C79-4B06-B91E-AA82733F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D078-AB31-4C8A-B7E5-72C967C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E645-1889-4DCC-9DDD-F124D2E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E74F-DB66-47CE-9DA9-2E2D0F93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A51D-3517-4465-A3BF-CD9D550F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8ACA-540D-4E15-990D-1351A797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78CC-2EC2-4004-9793-75CC88AC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924C-4D80-49B3-94CA-582CBB90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55D-9F8F-48C2-96F3-50BA7679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E3269-4DF9-4FE8-81AB-35F6CA1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FC639-25E0-4082-B561-FDB13B4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C501-02C1-46EA-AF75-0EE7C32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564A-F2A4-4D16-931D-4424DE59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FB27-1527-4955-9C3A-66F3302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EA59-5C51-45EA-9C6F-E9ACB21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2ACCD-F19A-4966-8824-BDDD2D7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CFED-F213-4BD2-90B5-67F3190E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4A5B-FBF7-4CA8-91F4-8FFD2D3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0E9CF-3014-46B6-BC4D-3C9C52D4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E53-D4D3-48A4-9BFE-A86CE1D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7564-C7B4-4570-89CC-E8FEBC3A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E858-E73C-4420-903E-7B245A9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5F674-DE10-4278-A763-D55D581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DF9E-C062-4F28-A890-6BAD84EE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99222-2370-405A-8F52-F4F687F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44F1-4A4B-404A-9829-98AB21E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03EC-4F8E-4E19-94D8-3B35BB9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87D2-6645-43F3-9367-165E010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5083-866F-4A4E-A87C-3A288FE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3097-EE95-40DD-8BA3-71A3969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674-7ACF-4AD2-A494-79C9DFF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17D48-1B6B-477D-BA80-AF735052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725C3-4A04-4324-AC56-E0D43471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B0BF-9C7F-4994-884D-EFAB73FF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D474-DCF8-45CD-9885-BD8CC097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7A10-3CBE-4532-BFC8-79771D0D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E1C78-BFFD-4F38-B028-A2223A7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077B-558F-4BCB-B7FB-BE3AA5CC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7AD2-3F91-4227-B46B-2D3FAE70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C12A-D14C-408E-95C4-316B01E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6132-8E85-43DE-86D7-65534CAD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D49-FF51-4D33-AB8F-1FD6D1C0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B392-1605-439F-AE6A-B3938CF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6390-8BF9-4DF9-9449-064983A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A4B2-4D49-41AD-B63C-8E6C8D1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6624-7BEE-4F8D-A090-A6ECDE99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893B-B900-4CC5-93D2-D9D388B6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4887F-B9BF-472F-9D2B-50E4B31E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A9AD-5ACD-4D73-9C07-032EECB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BA1F0-B0E1-4053-98F5-2120B7F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ECCA-16E5-4074-BEF1-9FCCD3DE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636D7-0804-41C0-AD6D-88FBBFB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A8B-9C01-428F-9356-B062AA4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2CF27-6278-4163-A05A-90F78FE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8075-4B6C-4059-A58F-3240D37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627A-B553-4880-9F19-9C80D7C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6E272-F943-4F91-BB0E-CC0444B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7F93-D460-434A-8E09-657175F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B685-1B73-4C86-9CBD-5C30AF19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4798-AAE7-44AD-8C63-762ACA4F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7FF06-CB8A-40CB-9CD6-C43A728C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7FDFA-06B1-464C-9478-B1125A23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9AA72-F1C7-4D5A-BC4C-8FC3C1C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DA3-E86C-4DD4-9A9A-755F168A8186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B7CC-DF2A-4D65-8202-37C9EC87311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- Ευθεία γραμμή σύνδεσης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CD8F-55AF-4D21-A2D1-C72C2F734B2E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- Ευθεία γραμμή σύνδεσης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7677-7657-41DE-9542-C8AEE3683E07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- Ευθεία γραμμή σύνδεσης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C17-C075-424F-8B04-3ECF942CC48D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F996-C95B-4C62-B5CD-84B95990A8EC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- Ευθεία γραμμή σύνδεσης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A1E-8A76-4CD7-930C-86857846CA2B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5C3-9DE4-4387-9BFA-52C806F1F5A9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A93A-C079-472A-8D8C-E39A4C48F153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3535200" y="-6480"/>
            <a:ext cx="5585040" cy="6645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222"/>
          <p:cNvPicPr/>
          <p:nvPr/>
        </p:nvPicPr>
        <p:blipFill>
          <a:blip r:embed="rId2"/>
          <a:stretch/>
        </p:blipFill>
        <p:spPr>
          <a:xfrm>
            <a:off x="0" y="428760"/>
            <a:ext cx="36702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3041640" y="-6480"/>
            <a:ext cx="6132600" cy="687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paisios1"/>
          <p:cNvPicPr/>
          <p:nvPr/>
        </p:nvPicPr>
        <p:blipFill>
          <a:blip r:embed="rId2"/>
          <a:stretch/>
        </p:blipFill>
        <p:spPr>
          <a:xfrm>
            <a:off x="152280" y="1066680"/>
            <a:ext cx="288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-360" y="-36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ff"/>
                </a:solidFill>
                <a:latin typeface="Franklin Gothic Book"/>
              </a:rPr>
              <a:t>Γέροντας Παΐσιος: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 Τω ποιήσαντι φώτα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μεγάλα μόνω Αλληλούια, ότι εις τον αιώνα το έλεος αυτού Αλληλούια. </a:t>
            </a:r>
            <a:br>
              <a:rPr sz="2600"/>
            </a:b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cc0000"/>
                </a:solidFill>
                <a:latin typeface="Franklin Gothic Book"/>
              </a:rPr>
              <a:t>Άλλοι μοναχοί: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 Τον ήλιον εις εξουσίαν της ημέρας Αλληλούια, ότι εις τον αιώνα το έλεος αυτού Αλληλούια</a:t>
            </a:r>
            <a:r>
              <a:rPr b="0" lang="el-GR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Franklin Gothic Book"/>
              </a:rPr>
              <a:t>Γέροντας Παΐσιος:</a:t>
            </a:r>
            <a:r>
              <a:rPr b="0" lang="el-GR" sz="2800" spc="-1" strike="noStrike">
                <a:solidFill>
                  <a:srgbClr val="4e3b30"/>
                </a:solidFill>
                <a:latin typeface="Franklin Gothic Book"/>
              </a:rPr>
              <a:t> Την σελήνην και τους αστέρας εις εξουσίαν της νυκτός Αλληλούια, ότι εις τον αιώνα το έλεος αυτού Αλληλούια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4" descr="g paisios"/>
          <p:cNvPicPr/>
          <p:nvPr/>
        </p:nvPicPr>
        <p:blipFill>
          <a:blip r:embed="rId1"/>
          <a:stretch/>
        </p:blipFill>
        <p:spPr>
          <a:xfrm>
            <a:off x="5334120" y="1924200"/>
            <a:ext cx="36781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Διδασκαλία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Γέροντα Παΐσιο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Garamond"/>
              </a:rPr>
              <a:t>Οι καλοί και οι κακοί λογισμοί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Garamond"/>
              </a:rPr>
              <a:t>Οι μύγες και οι μέλισσε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normal_proskinites"/>
          <p:cNvPicPr/>
          <p:nvPr/>
        </p:nvPicPr>
        <p:blipFill>
          <a:blip r:embed="rId1"/>
          <a:stretch/>
        </p:blipFill>
        <p:spPr>
          <a:xfrm>
            <a:off x="380880" y="380880"/>
            <a:ext cx="8610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562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Picture 5" descr="normal_ston_timio_stavro"/>
          <p:cNvPicPr/>
          <p:nvPr/>
        </p:nvPicPr>
        <p:blipFill>
          <a:blip r:embed="rId1"/>
          <a:stretch/>
        </p:blipFill>
        <p:spPr>
          <a:xfrm>
            <a:off x="2465280" y="304920"/>
            <a:ext cx="4316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562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Picture 5" descr="normal_souroti_me_neo"/>
          <p:cNvPicPr/>
          <p:nvPr/>
        </p:nvPicPr>
        <p:blipFill>
          <a:blip r:embed="rId1"/>
          <a:stretch/>
        </p:blipFill>
        <p:spPr>
          <a:xfrm>
            <a:off x="1998720" y="228600"/>
            <a:ext cx="5392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" descr="normal_paisios_athos"/>
          <p:cNvPicPr/>
          <p:nvPr/>
        </p:nvPicPr>
        <p:blipFill>
          <a:blip r:embed="rId1"/>
          <a:stretch/>
        </p:blipFill>
        <p:spPr>
          <a:xfrm>
            <a:off x="2484360" y="152280"/>
            <a:ext cx="414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09480" y="62481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l-GR" sz="2800" spc="-1" strike="noStrike">
                <a:solidFill>
                  <a:srgbClr val="4e3b30"/>
                </a:solidFill>
                <a:latin typeface="Franklin Gothic Book"/>
              </a:rPr>
              <a:t>ο κελί Παναγούδα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C:\Documents and Settings\user\Επιφάνεια εργασίας\32.jpg"/>
          <p:cNvPicPr/>
          <p:nvPr/>
        </p:nvPicPr>
        <p:blipFill>
          <a:blip r:embed="rId1"/>
          <a:stretch/>
        </p:blipFill>
        <p:spPr>
          <a:xfrm>
            <a:off x="1500120" y="1214280"/>
            <a:ext cx="65246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0520" y="54860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Ο πατήρ Παΐσιος ο μαθηματικός μαζί με το Γέροντα Παΐσιο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4" descr="normal_pais"/>
          <p:cNvPicPr/>
          <p:nvPr/>
        </p:nvPicPr>
        <p:blipFill>
          <a:blip r:embed="rId1"/>
          <a:stretch/>
        </p:blipFill>
        <p:spPr>
          <a:xfrm>
            <a:off x="2819520" y="76320"/>
            <a:ext cx="3520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59432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4e3b30"/>
                </a:solidFill>
                <a:latin typeface="Franklin Gothic Book"/>
              </a:rPr>
              <a:t>Το κελλάκι Παναγούδα όπως είναι σήμερα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4e3b30"/>
                </a:solidFill>
                <a:latin typeface="Franklin Gothic Book"/>
              </a:rPr>
              <a:t>Εδώ μένουν ο π.Αρσένιος και ο μοναχός Ησαΐας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Documents and Settings\user\Επιφάνεια εργασίας\46856555555.jpg"/>
          <p:cNvPicPr/>
          <p:nvPr/>
        </p:nvPicPr>
        <p:blipFill>
          <a:blip r:embed="rId1"/>
          <a:stretch/>
        </p:blipFill>
        <p:spPr>
          <a:xfrm>
            <a:off x="1785960" y="142884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0000"/>
                </a:solidFill>
                <a:latin typeface="Garamond"/>
              </a:rPr>
              <a:t>Ο Γέροντας Παΐσιος διδάσκει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0000"/>
                </a:solidFill>
                <a:latin typeface="Garamond"/>
              </a:rPr>
              <a:t>Ηχητικό ντοκουμέντο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12760" y="5711760"/>
            <a:ext cx="8632800" cy="1096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normal_agarse"/>
          <p:cNvPicPr/>
          <p:nvPr/>
        </p:nvPicPr>
        <p:blipFill>
          <a:blip r:embed="rId2"/>
          <a:stretch/>
        </p:blipFill>
        <p:spPr>
          <a:xfrm>
            <a:off x="533520" y="304920"/>
            <a:ext cx="8153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37960" y="5619600"/>
            <a:ext cx="8704440" cy="1354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καρα ΑγΑρσενιου"/>
          <p:cNvPicPr/>
          <p:nvPr/>
        </p:nvPicPr>
        <p:blipFill>
          <a:blip r:embed="rId2"/>
          <a:stretch/>
        </p:blipFill>
        <p:spPr>
          <a:xfrm>
            <a:off x="533520" y="228600"/>
            <a:ext cx="784836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7"/>
          <p:cNvPicPr/>
          <p:nvPr/>
        </p:nvPicPr>
        <p:blipFill>
          <a:blip r:embed="rId1"/>
          <a:stretch/>
        </p:blipFill>
        <p:spPr>
          <a:xfrm>
            <a:off x="2514600" y="304920"/>
            <a:ext cx="3790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normal_2"/>
          <p:cNvPicPr/>
          <p:nvPr/>
        </p:nvPicPr>
        <p:blipFill>
          <a:blip r:embed="rId1"/>
          <a:stretch/>
        </p:blipFill>
        <p:spPr>
          <a:xfrm>
            <a:off x="3071880" y="1285920"/>
            <a:ext cx="28573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3121200" y="-6480"/>
            <a:ext cx="5919480" cy="6645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85788000co3"/>
          <p:cNvPicPr/>
          <p:nvPr/>
        </p:nvPicPr>
        <p:blipFill>
          <a:blip r:embed="rId2"/>
          <a:stretch/>
        </p:blipFill>
        <p:spPr>
          <a:xfrm>
            <a:off x="0" y="609480"/>
            <a:ext cx="323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3591000" y="-6480"/>
            <a:ext cx="5344920" cy="6645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g paisios_panaguda_1983"/>
          <p:cNvPicPr/>
          <p:nvPr/>
        </p:nvPicPr>
        <p:blipFill>
          <a:blip r:embed="rId2"/>
          <a:stretch/>
        </p:blipFill>
        <p:spPr>
          <a:xfrm>
            <a:off x="0" y="533520"/>
            <a:ext cx="3490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81160" y="-6480"/>
            <a:ext cx="6070680" cy="6645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normal_gerontas"/>
          <p:cNvPicPr/>
          <p:nvPr/>
        </p:nvPicPr>
        <p:blipFill>
          <a:blip r:embed="rId2"/>
          <a:stretch/>
        </p:blipFill>
        <p:spPr>
          <a:xfrm>
            <a:off x="0" y="121932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3139920" y="146160"/>
            <a:ext cx="6212160" cy="671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normal_mprosta_se_fako"/>
          <p:cNvPicPr/>
          <p:nvPr/>
        </p:nvPicPr>
        <p:blipFill>
          <a:blip r:embed="rId2"/>
          <a:stretch/>
        </p:blipFill>
        <p:spPr>
          <a:xfrm>
            <a:off x="152280" y="1066680"/>
            <a:ext cx="2976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514240" y="0"/>
            <a:ext cx="6629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Αλλά βλέπω μερικά υποφέρουν: «Πάτερ, θες εκείνο, θες να πάω στις Καρυές, θέλεις μιά εξυπηρέτηση, κάτι». Αφού τα βλέπω που βασανίζονται: «πήγαινε παλικάρι, πάρε μου δύο κουτιά σπίρτα».  Μόλις το λέω σηκώνονται και πηγαίνουν με τέτοια χαρά! Λοιπόν πηγαίνει, ιδρώνει, έρχεται. Και ενώ είχα τρεις-τέσσερις αναπτήρες, δεν μου χρειάζονται τα σπίρτα, αλλά επειδή τα βλέπω παίρνουν… λοιπόν, αυτός ξεκουράστηκε με τον κόπο, με την κούραση ξεκουράστηκε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4" descr="γερων3"/>
          <p:cNvPicPr/>
          <p:nvPr/>
        </p:nvPicPr>
        <p:blipFill>
          <a:blip r:embed="rId1"/>
          <a:stretch/>
        </p:blipFill>
        <p:spPr>
          <a:xfrm>
            <a:off x="38160" y="914400"/>
            <a:ext cx="2781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00400" y="22860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Ενώ βλέπω αντιθέτως μερικά παιδιά, τυχαίνει κανένα γεροντάκι να ξεχάσει μία τσάντα, κάτι εκεί πέρα ή το καπέλο του: «Ρε παλικάρι,  τρέχα λιγάκι να προλάβεις ένα γεροντάκι εκεί πέρα, ξέχασε…» αναστενάζει, μόλις το λέω, αναστενάζει. «Δεν θα γυρίσει πίσω πάτερ;» λέει. «Ρε παλικάρι αυτός πάει στις Καρυές τώρα. Που να κατέβει τον κατήφορο τώρα, θα κουραστεί».  Ε,  αυτός μόλις το ακούει, κουράστηκε με να το ακούσει, πόσο μάλλον να πάει, ενώ ο άλλος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γερων1"/>
          <p:cNvPicPr/>
          <p:nvPr/>
        </p:nvPicPr>
        <p:blipFill>
          <a:blip r:embed="rId1"/>
          <a:stretch/>
        </p:blipFill>
        <p:spPr>
          <a:xfrm>
            <a:off x="0" y="914400"/>
            <a:ext cx="3495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19520" y="228240"/>
            <a:ext cx="58672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Αυτοί οι άνθρωποι κουράζονται και με την ξεκούραση ενώ οι άλλοι ξεκουράζονται με την κούραση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	</a:t>
            </a: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Διότι η καρδιά δεν κουράζεται ποτέ. Και ό,τι κάνει κανείς, να το κάνει με την καρδιά το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12"/>
          <p:cNvPicPr/>
          <p:nvPr/>
        </p:nvPicPr>
        <p:blipFill>
          <a:blip r:embed="rId1"/>
          <a:stretch/>
        </p:blipFill>
        <p:spPr>
          <a:xfrm>
            <a:off x="380880" y="609480"/>
            <a:ext cx="257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06:23Z</dcterms:created>
  <dc:creator>user</dc:creator>
  <dc:description/>
  <dc:language>en-US</dc:language>
  <cp:lastModifiedBy>user</cp:lastModifiedBy>
  <dcterms:modified xsi:type="dcterms:W3CDTF">2010-05-08T18:05:30Z</dcterms:modified>
  <cp:revision>4</cp:revision>
  <dc:subject/>
  <dc:title>Να ζείτε στο κλίμα της διαρκούς δοξολογίας και ευχαριστίας του Θεού.   Η μεγαλύτερη αμαρτία είναι η αχαριστία. </dc:title>
</cp:coreProperties>
</file>