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29.jpeg" ContentType="image/jpeg"/>
  <Override PartName="/ppt/media/image30.png" ContentType="image/png"/>
  <Override PartName="/ppt/media/image28.png" ContentType="image/png"/>
  <Override PartName="/ppt/media/image19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C1F9-D8FC-40CE-9134-0BC1988B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4E09-3FF9-4883-A47F-55A3DFCF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7F89B-0836-4A98-A3EA-E8886489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6B888-23A2-4345-857A-79C5F786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15BA9-9DA4-46FF-8DBB-40B00D06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F515D1-0221-43A5-B12D-066DC387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7EE33-2829-4CE3-BDE0-5621D66F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D2FDD-F5E3-46D2-892F-E1CB105E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42E2C-C1DF-4FCF-826F-256B0A7C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7CC22-EF69-42AB-9DC2-06556601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710E2-A98B-4DEB-B497-829C6973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CEA9-16C9-4A82-AC07-186BA27B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12C2-F422-4985-9962-75052FEC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DFCE-B55D-4F4C-BA94-C0917D9E1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8C54-F13E-47C5-AEBD-6D303344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D36B2-9FE7-42D2-90F9-15CB118C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6FF2-3386-45B1-A244-D69EA506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4C37-4D25-4254-9A54-566D9FDA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0A26-1FC4-4E46-8115-5138F634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C275-464B-4EB6-BACA-86E4CC61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79D7-CCE0-472A-8F39-FBEFD738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3172-F322-424E-B136-453282F4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B838-28AC-40E5-9769-D5B94E61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FFAA-C852-4F32-8BB5-BBFECDA7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AC35-97AD-4E81-8122-AD6AF9D6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493C-164A-4ED7-ADE6-32C25552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FD913-39A8-48FA-B97F-9658269B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0064B-838D-40BB-87D7-CC5D7733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98A3E-A87A-47C9-8D4B-EF0CA60D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F9F4C-0C9A-486C-88AF-A8CD316C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A57C5-AAE8-4ED1-B9B5-7E3D45F8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C332-64B2-4646-8717-C82A14F1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8B5B8-FBE9-4733-B591-37E3FC1F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A4C34-B66F-40AA-8EC9-12B2DFB9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3C452-48BC-4505-995E-3B91D09B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FBB8A-6CA1-4E2F-872F-5AE5CA5B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5F4FE-68B5-4305-A36D-32DF68B85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57E45-86F9-4E61-89D2-A04C377C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A1F82-55ED-4383-8904-280ABB22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B9546-F3F6-4523-B7CB-939F9BFD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E6488-77E8-48C5-B36E-261AB710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458C1-40B0-4592-8462-08C284A4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D476-DF53-416D-AAC4-E6A365BD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CE3D1-609E-4113-9D92-304783CE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A4054-6342-47B0-8A79-EA1C0D0A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B7BFB-E7AC-4E36-A2C3-DE18A775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3AFDF-7119-4BB0-830F-95372964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CB731-B014-481A-B41D-CF6DA1B3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EE8F6-F408-42EE-9C78-2DB39232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CAD42-155F-4083-BDC2-DCF838C8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762A8-59F2-4C9F-8F68-D7B39BCB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31BEE-971E-4031-A7FE-1A2437439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FA3F1-A577-45CB-8F95-8E2C4ECC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035F-9994-4DCD-ABAF-75BA0DEF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5DF5F-DEC4-4B02-9C65-17B3AA97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AA1BF-6E55-405A-AC9F-DF73B93A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0321E-FA40-4EA7-907F-E6127FF4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2505E-88DE-4C64-A884-D18E9451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0B7B1-893B-4514-9551-42CB136A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17488-ED6F-445D-BA96-C9C99C90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FEB32-4CD5-4DE3-86C0-BF620AD5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7B126-7227-4F41-9C53-D3CA0277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06853-2D16-45C6-B575-1D3C6C30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0DDA8-3AB0-4DE8-81EE-42EA50C6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FE74-E04A-4848-B5D1-322755DD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64576-9F39-4E04-851C-EAA22F79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84A6C-EA2B-41DA-A841-174B1A846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DC121-B8F9-4C08-9F6B-8D24AFAF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5E465-70A0-418E-9E3F-4A7CEDC0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F81B2-20A3-418D-8E64-571CA399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04622-A421-4572-A8A7-743404FE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A642C-B4D2-42C3-88BD-7BF8FAFC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BFBE7-1AF5-4AD5-9744-948EFE55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0EF64-220F-47F4-A830-D42552CC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826EC-7335-4853-8512-13ACEBBB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48B-D82D-45E4-B412-119799B9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955F8-29B8-4DB5-9CAE-66B94706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408A3-DCE7-45E9-B70A-526BA8D4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BDEC8-884E-44DA-A6C2-47FC7E31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E86D9-F7EB-48CC-B076-4828C4DD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1BCC5-B7A9-4D8C-AB9B-C99BD76A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86E39-2E54-48F7-AAEE-1F6E1E08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CC3CD-EAC9-4185-8D41-B6DB8AB7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36194-BDC1-4A13-B908-3C869DCF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3BCE3-3525-47E6-966E-E557BD80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ED15C-445A-4138-89C9-8595B6C4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B48-5B19-4640-BEA3-07C45E0A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A9A69-9883-469B-92A9-3D301344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08110-19BE-4C16-BFB7-0A2C3C76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3524C-FD30-4F95-B996-5B635FAA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BBAD1-703F-4A7D-8A35-C9B4C107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D16D1-202C-4F6F-810C-AC96B5DA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8D9CF-F3C7-4CE4-A37D-6AF7EBB0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11B4A-A011-4EE2-ADB4-1F33DB09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C6F2A-C073-4CD3-9E61-FD15C243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E9FF4-09D1-4AC9-8F25-F9EBC3B6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CAC18-B97B-4439-8919-A8D48536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239-DCF4-4582-B29B-132FA5F5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79032-972E-48C4-A523-DBFC3D96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811DB-7900-4E1E-B7C7-781B9C22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7FB06-0977-47A4-A15C-85874905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AE442-71DE-44B0-B7F6-84E289A5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8FCF4-630E-4DA1-B6BF-CD67E404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17BCB1-3362-4F2B-832B-34EF5794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F6DD4-FEDA-4BE1-A836-2A412C18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727EA-9140-45AE-B97C-4501CEC0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43CAF-B55F-481E-914A-7D5D92A6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11208-2433-46A9-ADC0-6EBF7CDF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- Ευθεία γραμμή σύνδεσης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6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023F-8525-42BB-8BC9-C9BDAC5FA26B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8 - Ευθεία γραμμή σύνδεσης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8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11 - Ευθεία γραμμή σύνδεσης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11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6 - Ευθεία γραμμή σύνδεσης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6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D8D5-6928-4636-9B28-0C814B7F0967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6 - Ευθεία γραμμή σύνδεσης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6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8 - Ευθεία γραμμή σύνδεσης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8 - Ευθεία γραμμή σύνδεσης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11 - Ευθεία γραμμή σύνδεσης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11 - Ευθεία γραμμή σύνδεσης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880B-A610-473A-B714-F6F0B534E881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6 - Ευθεία γραμμή σύνδεσης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6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C817-58B6-48DF-8943-B46EE3BAE5CF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10 - Ευθεία γραμμή σύνδεσης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10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04F8-32E1-477F-80F6-23E1C3A78567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7250-BD51-4B8D-8420-AFE4E3C3D42E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7 - Ευθεία γραμμή σύνδεσης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7 - Ευθεία γραμμή σύνδεσης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8B22-CCEA-4CA3-8273-E862491646AB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2C0E-FDE9-4A56-9402-EC8E198E9BBC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30CE-CA2F-4D4E-87E6-7B7169B3B2B4}" type="slidenum">
              <a:rPr b="0" lang="el-GR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3535200" y="-6480"/>
            <a:ext cx="5585040" cy="6645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5" descr="222"/>
          <p:cNvPicPr/>
          <p:nvPr/>
        </p:nvPicPr>
        <p:blipFill>
          <a:blip r:embed="rId2"/>
          <a:stretch/>
        </p:blipFill>
        <p:spPr>
          <a:xfrm>
            <a:off x="0" y="428760"/>
            <a:ext cx="36702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3041640" y="-6480"/>
            <a:ext cx="6132600" cy="6870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paisios1"/>
          <p:cNvPicPr/>
          <p:nvPr/>
        </p:nvPicPr>
        <p:blipFill>
          <a:blip r:embed="rId2"/>
          <a:stretch/>
        </p:blipFill>
        <p:spPr>
          <a:xfrm>
            <a:off x="152280" y="1066680"/>
            <a:ext cx="2887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-360" y="-360"/>
            <a:ext cx="52578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ff"/>
                </a:solidFill>
                <a:latin typeface="Franklin Gothic Book"/>
              </a:rPr>
              <a:t>Γέροντας Παΐσιος:</a:t>
            </a:r>
            <a:r>
              <a:rPr b="0" lang="el-GR" sz="2600" spc="-1" strike="noStrike">
                <a:solidFill>
                  <a:srgbClr val="4e3b30"/>
                </a:solidFill>
                <a:latin typeface="Franklin Gothic Book"/>
              </a:rPr>
              <a:t> Τω ποιήσαντι φώτα</a:t>
            </a: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l-GR" sz="2600" spc="-1" strike="noStrike">
                <a:solidFill>
                  <a:srgbClr val="4e3b30"/>
                </a:solidFill>
                <a:latin typeface="Franklin Gothic Book"/>
              </a:rPr>
              <a:t>μεγάλα μόνω Αλληλούια, ότι εις τον αιώνα το έλεος αυτού Αλληλούια. </a:t>
            </a:r>
            <a:br>
              <a:rPr sz="2600"/>
            </a:b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cc0000"/>
                </a:solidFill>
                <a:latin typeface="Franklin Gothic Book"/>
              </a:rPr>
              <a:t>Άλλοι μοναχοί:</a:t>
            </a:r>
            <a:r>
              <a:rPr b="0" lang="el-GR" sz="2600" spc="-1" strike="noStrike">
                <a:solidFill>
                  <a:srgbClr val="4e3b30"/>
                </a:solidFill>
                <a:latin typeface="Franklin Gothic Book"/>
              </a:rPr>
              <a:t> Τον ήλιον εις εξουσίαν της ημέρας Αλληλούια, ότι εις τον αιώνα το έλεος αυτού Αλληλούια</a:t>
            </a:r>
            <a:r>
              <a:rPr b="0" lang="el-GR" sz="1800" spc="-1" strike="noStrike">
                <a:solidFill>
                  <a:srgbClr val="4e3b30"/>
                </a:solidFill>
                <a:latin typeface="Franklin Gothic Book"/>
              </a:rPr>
              <a:t>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ff"/>
                </a:solidFill>
                <a:latin typeface="Franklin Gothic Book"/>
              </a:rPr>
              <a:t>Γέροντας Παΐσιος:</a:t>
            </a:r>
            <a:r>
              <a:rPr b="0" lang="el-GR" sz="2800" spc="-1" strike="noStrike">
                <a:solidFill>
                  <a:srgbClr val="4e3b30"/>
                </a:solidFill>
                <a:latin typeface="Franklin Gothic Book"/>
              </a:rPr>
              <a:t> Την σελήνην και τους αστέρας εις εξουσίαν της νυκτός Αλληλούια, ότι εις τον αιώνα το έλεος αυτού Αλληλούια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9" name="Picture 4" descr="g paisios"/>
          <p:cNvPicPr/>
          <p:nvPr/>
        </p:nvPicPr>
        <p:blipFill>
          <a:blip r:embed="rId1"/>
          <a:stretch/>
        </p:blipFill>
        <p:spPr>
          <a:xfrm>
            <a:off x="5334120" y="1924200"/>
            <a:ext cx="36781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4e3b30"/>
                </a:solidFill>
                <a:latin typeface="Franklin Gothic Book"/>
              </a:rPr>
              <a:t>Διδασκαλία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4e3b30"/>
                </a:solidFill>
                <a:latin typeface="Franklin Gothic Book"/>
              </a:rPr>
              <a:t>Γέροντα Παΐσιο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cc0000"/>
                </a:solidFill>
                <a:latin typeface="Garamond"/>
              </a:rPr>
              <a:t>Οι καλοί και οι κακοί λογισμοί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cc0000"/>
                </a:solidFill>
                <a:latin typeface="Garamond"/>
              </a:rPr>
              <a:t>Οι μύγες και οι μέλισσες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5" descr="normal_proskinites"/>
          <p:cNvPicPr/>
          <p:nvPr/>
        </p:nvPicPr>
        <p:blipFill>
          <a:blip r:embed="rId1"/>
          <a:stretch/>
        </p:blipFill>
        <p:spPr>
          <a:xfrm>
            <a:off x="380880" y="380880"/>
            <a:ext cx="8610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55623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3" name="Picture 5" descr="normal_ston_timio_stavro"/>
          <p:cNvPicPr/>
          <p:nvPr/>
        </p:nvPicPr>
        <p:blipFill>
          <a:blip r:embed="rId1"/>
          <a:stretch/>
        </p:blipFill>
        <p:spPr>
          <a:xfrm>
            <a:off x="2465280" y="304920"/>
            <a:ext cx="4316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55623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5" name="Picture 5" descr="normal_souroti_me_neo"/>
          <p:cNvPicPr/>
          <p:nvPr/>
        </p:nvPicPr>
        <p:blipFill>
          <a:blip r:embed="rId1"/>
          <a:stretch/>
        </p:blipFill>
        <p:spPr>
          <a:xfrm>
            <a:off x="1998720" y="228600"/>
            <a:ext cx="5392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5" descr="normal_paisios_athos"/>
          <p:cNvPicPr/>
          <p:nvPr/>
        </p:nvPicPr>
        <p:blipFill>
          <a:blip r:embed="rId1"/>
          <a:stretch/>
        </p:blipFill>
        <p:spPr>
          <a:xfrm>
            <a:off x="2484360" y="152280"/>
            <a:ext cx="4145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609480" y="62481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</a:t>
            </a:r>
            <a:r>
              <a:rPr b="0" lang="el-GR" sz="2800" spc="-1" strike="noStrike">
                <a:solidFill>
                  <a:srgbClr val="4e3b30"/>
                </a:solidFill>
                <a:latin typeface="Franklin Gothic Book"/>
              </a:rPr>
              <a:t>ο κελί Παναγούδα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8" name="Picture 2" descr="C:\Documents and Settings\user\Επιφάνεια εργασίας\32.jpg"/>
          <p:cNvPicPr/>
          <p:nvPr/>
        </p:nvPicPr>
        <p:blipFill>
          <a:blip r:embed="rId1"/>
          <a:stretch/>
        </p:blipFill>
        <p:spPr>
          <a:xfrm>
            <a:off x="1500120" y="1214280"/>
            <a:ext cx="652464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0520" y="54860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4e3b30"/>
                </a:solidFill>
                <a:latin typeface="Franklin Gothic Book"/>
              </a:rPr>
              <a:t>Ο πατήρ Παΐσιος ο μαθηματικός μαζί με το Γέροντα Παΐσιο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0" name="Picture 4" descr="normal_pais"/>
          <p:cNvPicPr/>
          <p:nvPr/>
        </p:nvPicPr>
        <p:blipFill>
          <a:blip r:embed="rId1"/>
          <a:stretch/>
        </p:blipFill>
        <p:spPr>
          <a:xfrm>
            <a:off x="2819520" y="76320"/>
            <a:ext cx="35208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0" y="594324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4e3b30"/>
                </a:solidFill>
                <a:latin typeface="Franklin Gothic Book"/>
              </a:rPr>
              <a:t>Το κελλάκι Παναγούδα όπως είναι σήμερα. 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4e3b30"/>
                </a:solidFill>
                <a:latin typeface="Franklin Gothic Book"/>
              </a:rPr>
              <a:t>Εδώ μένουν ο π.Αρσένιος και ο μοναχός Ησαΐας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2" name="Picture 2" descr="C:\Documents and Settings\user\Επιφάνεια εργασίας\46856555555.jpg"/>
          <p:cNvPicPr/>
          <p:nvPr/>
        </p:nvPicPr>
        <p:blipFill>
          <a:blip r:embed="rId1"/>
          <a:stretch/>
        </p:blipFill>
        <p:spPr>
          <a:xfrm>
            <a:off x="1785960" y="1428840"/>
            <a:ext cx="55245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828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c0000"/>
                </a:solidFill>
                <a:latin typeface="Garamond"/>
              </a:rPr>
              <a:t>Ο Γέροντας Παΐσιος διδάσκει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cc0000"/>
                </a:solidFill>
                <a:latin typeface="Garamond"/>
              </a:rPr>
              <a:t>Ηχητικό ντοκουμέντο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212760" y="5711760"/>
            <a:ext cx="8632800" cy="10969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4" descr="normal_agarse"/>
          <p:cNvPicPr/>
          <p:nvPr/>
        </p:nvPicPr>
        <p:blipFill>
          <a:blip r:embed="rId2"/>
          <a:stretch/>
        </p:blipFill>
        <p:spPr>
          <a:xfrm>
            <a:off x="533520" y="304920"/>
            <a:ext cx="815328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237960" y="5619600"/>
            <a:ext cx="8704440" cy="13543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καρα ΑγΑρσενιου"/>
          <p:cNvPicPr/>
          <p:nvPr/>
        </p:nvPicPr>
        <p:blipFill>
          <a:blip r:embed="rId2"/>
          <a:stretch/>
        </p:blipFill>
        <p:spPr>
          <a:xfrm>
            <a:off x="533520" y="228600"/>
            <a:ext cx="784836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3" descr="7"/>
          <p:cNvPicPr/>
          <p:nvPr/>
        </p:nvPicPr>
        <p:blipFill>
          <a:blip r:embed="rId1"/>
          <a:stretch/>
        </p:blipFill>
        <p:spPr>
          <a:xfrm>
            <a:off x="2514600" y="304920"/>
            <a:ext cx="3790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4" descr="normal_2"/>
          <p:cNvPicPr/>
          <p:nvPr/>
        </p:nvPicPr>
        <p:blipFill>
          <a:blip r:embed="rId1"/>
          <a:stretch/>
        </p:blipFill>
        <p:spPr>
          <a:xfrm>
            <a:off x="3071880" y="1285920"/>
            <a:ext cx="28573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3121200" y="-6480"/>
            <a:ext cx="5919480" cy="6645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85788000co3"/>
          <p:cNvPicPr/>
          <p:nvPr/>
        </p:nvPicPr>
        <p:blipFill>
          <a:blip r:embed="rId2"/>
          <a:stretch/>
        </p:blipFill>
        <p:spPr>
          <a:xfrm>
            <a:off x="0" y="609480"/>
            <a:ext cx="3232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2" descr=""/>
          <p:cNvPicPr/>
          <p:nvPr/>
        </p:nvPicPr>
        <p:blipFill>
          <a:blip r:embed="rId1"/>
          <a:stretch/>
        </p:blipFill>
        <p:spPr>
          <a:xfrm>
            <a:off x="3591000" y="-6480"/>
            <a:ext cx="5344920" cy="66452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g paisios_panaguda_1983"/>
          <p:cNvPicPr/>
          <p:nvPr/>
        </p:nvPicPr>
        <p:blipFill>
          <a:blip r:embed="rId2"/>
          <a:stretch/>
        </p:blipFill>
        <p:spPr>
          <a:xfrm>
            <a:off x="0" y="533520"/>
            <a:ext cx="349092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2981160" y="-6480"/>
            <a:ext cx="6070680" cy="66452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normal_gerontas"/>
          <p:cNvPicPr/>
          <p:nvPr/>
        </p:nvPicPr>
        <p:blipFill>
          <a:blip r:embed="rId2"/>
          <a:stretch/>
        </p:blipFill>
        <p:spPr>
          <a:xfrm>
            <a:off x="0" y="121932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3139920" y="146160"/>
            <a:ext cx="6212160" cy="67183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normal_mprosta_se_fako"/>
          <p:cNvPicPr/>
          <p:nvPr/>
        </p:nvPicPr>
        <p:blipFill>
          <a:blip r:embed="rId2"/>
          <a:stretch/>
        </p:blipFill>
        <p:spPr>
          <a:xfrm>
            <a:off x="152280" y="1066680"/>
            <a:ext cx="2976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2514240" y="0"/>
            <a:ext cx="66294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l-GR" sz="3100" spc="-1" strike="noStrike">
                <a:solidFill>
                  <a:srgbClr val="4e3b30"/>
                </a:solidFill>
                <a:latin typeface="Franklin Gothic Book"/>
              </a:rPr>
              <a:t>Αλλά βλέπω μερικά υποφέρουν: «Πάτερ, θες εκείνο, θες να πάω στις Καρυές, θέλεις μιά εξυπηρέτηση, κάτι». Αφού τα βλέπω που βασανίζονται: «πήγαινε παλικάρι, πάρε μου δύο κουτιά σπίρτα».  Μόλις το λέω σηκώνονται και πηγαίνουν με τέτοια χαρά! Λοιπόν πηγαίνει, ιδρώνει, έρχεται. Και ενώ είχα τρεις-τέσσερις αναπτήρες, δεν μου χρειάζονται τα σπίρτα, αλλά επειδή τα βλέπω παίρνουν… λοιπόν, αυτός ξεκουράστηκε με τον κόπο, με την κούραση ξεκουράστηκε. 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4" descr="γερων3"/>
          <p:cNvPicPr/>
          <p:nvPr/>
        </p:nvPicPr>
        <p:blipFill>
          <a:blip r:embed="rId1"/>
          <a:stretch/>
        </p:blipFill>
        <p:spPr>
          <a:xfrm>
            <a:off x="38160" y="914400"/>
            <a:ext cx="2781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00400" y="228600"/>
            <a:ext cx="5943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4e3b30"/>
                </a:solidFill>
                <a:latin typeface="Franklin Gothic Book"/>
              </a:rPr>
              <a:t>Ενώ βλέπω αντιθέτως μερικά παιδιά, τυχαίνει κανένα γεροντάκι να ξεχάσει μία τσάντα, κάτι εκεί πέρα ή το καπέλο του: «Ρε παλικάρι,  τρέχα λιγάκι να προλάβεις ένα γεροντάκι εκεί πέρα, ξέχασε…» αναστενάζει, μόλις το λέω, αναστενάζει. «Δεν θα γυρίσει πίσω πάτερ;» λέει. «Ρε παλικάρι αυτός πάει στις Καρυές τώρα. Που να κατέβει τον κατήφορο τώρα, θα κουραστεί».  Ε,  αυτός μόλις το ακούει, κουράστηκε με να το ακούσει, πόσο μάλλον να πάει, ενώ ο άλλος;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Picture 4" descr="γερων1"/>
          <p:cNvPicPr/>
          <p:nvPr/>
        </p:nvPicPr>
        <p:blipFill>
          <a:blip r:embed="rId1"/>
          <a:stretch/>
        </p:blipFill>
        <p:spPr>
          <a:xfrm>
            <a:off x="0" y="914400"/>
            <a:ext cx="3495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819520" y="228240"/>
            <a:ext cx="58672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l-GR" sz="3200" spc="-1" strike="noStrike">
                <a:solidFill>
                  <a:srgbClr val="cc0000"/>
                </a:solidFill>
                <a:latin typeface="Franklin Gothic Book"/>
              </a:rPr>
              <a:t>Αυτοί οι άνθρωποι κουράζονται και με την ξεκούραση ενώ οι άλλοι ξεκουράζονται με την κούραση!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cc0000"/>
                </a:solidFill>
                <a:latin typeface="Franklin Gothic Book"/>
              </a:rPr>
              <a:t>	</a:t>
            </a:r>
            <a:r>
              <a:rPr b="0" lang="el-GR" sz="3200" spc="-1" strike="noStrike">
                <a:solidFill>
                  <a:srgbClr val="cc0000"/>
                </a:solidFill>
                <a:latin typeface="Franklin Gothic Book"/>
              </a:rPr>
              <a:t>Διότι η καρδιά δεν κουράζεται ποτέ. Και ό,τι κάνει κανείς, να το κάνει με την καρδιά του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5" name="Picture 4" descr="12"/>
          <p:cNvPicPr/>
          <p:nvPr/>
        </p:nvPicPr>
        <p:blipFill>
          <a:blip r:embed="rId1"/>
          <a:stretch/>
        </p:blipFill>
        <p:spPr>
          <a:xfrm>
            <a:off x="380880" y="609480"/>
            <a:ext cx="2578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3:06:23Z</dcterms:created>
  <dc:creator>user</dc:creator>
  <dc:description/>
  <dc:language>en-US</dc:language>
  <cp:lastModifiedBy>user</cp:lastModifiedBy>
  <dcterms:modified xsi:type="dcterms:W3CDTF">2010-05-08T18:05:30Z</dcterms:modified>
  <cp:revision>4</cp:revision>
  <dc:subject/>
  <dc:title>Να ζείτε στο κλίμα της διαρκούς δοξολογίας και ευχαριστίας του Θεού.   Η μεγαλύτερη αμαρτία είναι η αχαριστία. </dc:title>
</cp:coreProperties>
</file>