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DBEB-97F7-43B4-8FE3-78FA7AF8B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9A5-B640-4D83-BB7F-83298161E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enty second June 0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006-11C4-4A17-8CC3-5E9119BF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DDC-0DC5-4965-A086-A64318D6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18D-9ACE-4620-B78D-5DD97ADA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B31-CA4C-4068-95CE-B3D6D769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221-E149-42BD-925F-362A33DB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452-EE7C-40C6-9E08-98FA19DE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B95-850D-46AF-82F5-1C78D7AA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95D-0DCD-464B-990F-95EE8C74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F3B-13B5-4337-96E2-CDA6F6B5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99B-42D3-4761-A07C-9158F12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1AF-E9F0-4AB1-AEEE-DA27C69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EC4-2E6A-4EAE-B8BA-3A1AC1E8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ED07-D0E1-438C-9CCD-DF381ABD1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stages to the 3D to 2D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a clipping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a proj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lipping is achieved by defining a view volume (the volume that can be seen). This section considers the specification of a view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95360" y="5259240"/>
            <a:ext cx="826776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ok-a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ok-at function allows the camera to remain aimed at a given point even as its position in the worl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mera is centered at the eye (VRP = 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mera is pointed at the "at" point (VPN = a - 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p vector (VUP) must be defined to specify the camera orien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133720" y="5029200"/>
            <a:ext cx="685800" cy="6858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2362320" y="5486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134800" y="5257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5"/>
          <p:cNvSpPr/>
          <p:nvPr/>
        </p:nvSpPr>
        <p:spPr>
          <a:xfrm flipV="1">
            <a:off x="2438280" y="4648320"/>
            <a:ext cx="9144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3352680" y="45720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430080" y="4267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048480" y="4849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371600" y="5715000"/>
            <a:ext cx="6477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penG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LookAt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aw, Pitch and Ro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52280" y="312408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in nose of pl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4692600" y="19807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692600" y="28195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020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5324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42152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4540320" y="2666880"/>
            <a:ext cx="304560" cy="3049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11"/>
          <p:cNvSpPr/>
          <p:nvPr/>
        </p:nvSpPr>
        <p:spPr>
          <a:xfrm rot="20318400">
            <a:off x="4692600" y="2590920"/>
            <a:ext cx="914400" cy="759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2"/>
          <p:cNvSpPr/>
          <p:nvPr/>
        </p:nvSpPr>
        <p:spPr>
          <a:xfrm rot="20318400">
            <a:off x="3778200" y="2971800"/>
            <a:ext cx="914400" cy="763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405320" y="316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rc 14"/>
          <p:cNvSpPr/>
          <p:nvPr/>
        </p:nvSpPr>
        <p:spPr>
          <a:xfrm>
            <a:off x="5181480" y="2666880"/>
            <a:ext cx="76320" cy="152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257800" y="25146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6"/>
          <p:cNvSpPr/>
          <p:nvPr/>
        </p:nvSpPr>
        <p:spPr>
          <a:xfrm flipV="1">
            <a:off x="7848720" y="2133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17"/>
          <p:cNvSpPr/>
          <p:nvPr/>
        </p:nvSpPr>
        <p:spPr>
          <a:xfrm flipH="1">
            <a:off x="6934320" y="2971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678312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800280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20"/>
          <p:cNvSpPr/>
          <p:nvPr/>
        </p:nvSpPr>
        <p:spPr>
          <a:xfrm rot="811800">
            <a:off x="7238880" y="2809800"/>
            <a:ext cx="1219320" cy="1526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21"/>
          <p:cNvSpPr/>
          <p:nvPr/>
        </p:nvSpPr>
        <p:spPr>
          <a:xfrm flipH="1" rot="1230600">
            <a:off x="8229240" y="2590920"/>
            <a:ext cx="228600" cy="380520"/>
          </a:xfrm>
          <a:prstGeom prst="rtTriangl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rc 22"/>
          <p:cNvSpPr/>
          <p:nvPr/>
        </p:nvSpPr>
        <p:spPr>
          <a:xfrm flipH="1">
            <a:off x="7315200" y="2819520"/>
            <a:ext cx="76320" cy="2286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7010280" y="26668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316280" y="32004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25"/>
          <p:cNvSpPr/>
          <p:nvPr/>
        </p:nvSpPr>
        <p:spPr>
          <a:xfrm>
            <a:off x="6095880" y="4267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26"/>
          <p:cNvSpPr/>
          <p:nvPr/>
        </p:nvSpPr>
        <p:spPr>
          <a:xfrm>
            <a:off x="6095880" y="4267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70884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5792400" y="4952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rc 29"/>
          <p:cNvSpPr/>
          <p:nvPr/>
        </p:nvSpPr>
        <p:spPr>
          <a:xfrm flipV="1">
            <a:off x="6095880" y="4571280"/>
            <a:ext cx="152640" cy="152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6095880" y="4572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1"/>
          <p:cNvSpPr/>
          <p:nvPr/>
        </p:nvSpPr>
        <p:spPr>
          <a:xfrm rot="16415400">
            <a:off x="5867280" y="3961800"/>
            <a:ext cx="609480" cy="1526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32"/>
          <p:cNvSpPr/>
          <p:nvPr/>
        </p:nvSpPr>
        <p:spPr>
          <a:xfrm rot="11118600">
            <a:off x="5486040" y="4266720"/>
            <a:ext cx="609480" cy="1526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6403320" y="4952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380880" y="4267080"/>
            <a:ext cx="51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light simulators, the angles of rotation are about the center of mass of the air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in the nose of the 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380880" y="4191120"/>
            <a:ext cx="50292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36"/>
          <p:cNvSpPr/>
          <p:nvPr/>
        </p:nvSpPr>
        <p:spPr>
          <a:xfrm rot="2457600">
            <a:off x="5562360" y="4191120"/>
            <a:ext cx="1066680" cy="22860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7"/>
          <p:cNvSpPr/>
          <p:nvPr/>
        </p:nvSpPr>
        <p:spPr>
          <a:xfrm flipV="1">
            <a:off x="1623960" y="182736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38"/>
          <p:cNvSpPr/>
          <p:nvPr/>
        </p:nvSpPr>
        <p:spPr>
          <a:xfrm>
            <a:off x="1665360" y="2763720"/>
            <a:ext cx="438120" cy="50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39"/>
          <p:cNvSpPr/>
          <p:nvPr/>
        </p:nvSpPr>
        <p:spPr>
          <a:xfrm flipH="1">
            <a:off x="685800" y="27050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0"/>
          <p:cNvSpPr/>
          <p:nvPr/>
        </p:nvSpPr>
        <p:spPr>
          <a:xfrm>
            <a:off x="2175120" y="296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495000" y="223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42"/>
          <p:cNvGrpSpPr/>
          <p:nvPr/>
        </p:nvGrpSpPr>
        <p:grpSpPr>
          <a:xfrm>
            <a:off x="992160" y="2287440"/>
            <a:ext cx="1157040" cy="784440"/>
            <a:chOff x="992160" y="2287440"/>
            <a:chExt cx="1157040" cy="784440"/>
          </a:xfrm>
        </p:grpSpPr>
        <p:sp>
          <p:nvSpPr>
            <p:cNvPr id="134" name="AutoShape 43"/>
            <p:cNvSpPr/>
            <p:nvPr/>
          </p:nvSpPr>
          <p:spPr>
            <a:xfrm flipH="1" rot="241200">
              <a:off x="1893960" y="2295000"/>
              <a:ext cx="228600" cy="380880"/>
            </a:xfrm>
            <a:prstGeom prst="rtTriangle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val 44"/>
            <p:cNvSpPr/>
            <p:nvPr/>
          </p:nvSpPr>
          <p:spPr>
            <a:xfrm rot="21342600">
              <a:off x="999000" y="2571120"/>
              <a:ext cx="1143000" cy="228600"/>
            </a:xfrm>
            <a:prstGeom prst="ellipse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Oval 45"/>
            <p:cNvSpPr/>
            <p:nvPr/>
          </p:nvSpPr>
          <p:spPr>
            <a:xfrm rot="2821200">
              <a:off x="1045440" y="26838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Oval 46"/>
            <p:cNvSpPr/>
            <p:nvPr/>
          </p:nvSpPr>
          <p:spPr>
            <a:xfrm rot="1781400">
              <a:off x="1474920" y="2778120"/>
              <a:ext cx="609480" cy="152640"/>
            </a:xfrm>
            <a:prstGeom prst="ellipse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pecifying the clipping volume for Parallel proj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828800" y="2057400"/>
            <a:ext cx="504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rtho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ear, f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4359240" y="3352680"/>
            <a:ext cx="18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359240" y="4876920"/>
            <a:ext cx="9144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7"/>
          <p:cNvSpPr/>
          <p:nvPr/>
        </p:nvSpPr>
        <p:spPr>
          <a:xfrm flipH="1">
            <a:off x="3825720" y="48769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27544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43736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2224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4130640" y="3657600"/>
            <a:ext cx="1600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4359240" y="3733560"/>
            <a:ext cx="83808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2326320" y="4343400"/>
            <a:ext cx="184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-n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609520" y="3200400"/>
            <a:ext cx="181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-f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pecifying the clipping volume for Perspective proj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5800" y="1752480"/>
            <a:ext cx="7407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Frustum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ear, f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x and y positions are defined on the near 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6"/>
          <p:cNvSpPr/>
          <p:nvPr/>
        </p:nvSpPr>
        <p:spPr>
          <a:xfrm flipV="1">
            <a:off x="1600200" y="2819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00200" y="4343400"/>
            <a:ext cx="9144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1294920" y="43434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7621200" y="3657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18908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068120" y="4267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210400" y="3809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049200" y="327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676520" y="3581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1600200" y="3505320"/>
            <a:ext cx="12952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16"/>
          <p:cNvSpPr/>
          <p:nvPr/>
        </p:nvSpPr>
        <p:spPr>
          <a:xfrm flipV="1">
            <a:off x="1600200" y="2971800"/>
            <a:ext cx="1295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7"/>
          <p:cNvSpPr/>
          <p:nvPr/>
        </p:nvSpPr>
        <p:spPr>
          <a:xfrm flipV="1">
            <a:off x="1600200" y="3505320"/>
            <a:ext cx="1522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8"/>
          <p:cNvSpPr/>
          <p:nvPr/>
        </p:nvSpPr>
        <p:spPr>
          <a:xfrm flipV="1">
            <a:off x="1600200" y="2971800"/>
            <a:ext cx="15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1752480" y="29718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20"/>
          <p:cNvSpPr/>
          <p:nvPr/>
        </p:nvSpPr>
        <p:spPr>
          <a:xfrm flipV="1">
            <a:off x="1600200" y="2666520"/>
            <a:ext cx="1295280" cy="1676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7200" y="5181480"/>
            <a:ext cx="8397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you can specify the field of view in the vertical direction, fovy, and the aspect ratio (width/heigh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Perspective(fovy, aspect, near, f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1523880" y="47242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Frus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23"/>
          <p:cNvSpPr/>
          <p:nvPr/>
        </p:nvSpPr>
        <p:spPr>
          <a:xfrm flipV="1">
            <a:off x="5442120" y="30477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5486400" y="3886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2668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50310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27"/>
          <p:cNvSpPr/>
          <p:nvPr/>
        </p:nvSpPr>
        <p:spPr>
          <a:xfrm flipV="1">
            <a:off x="5410080" y="342900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5410080" y="3886200"/>
            <a:ext cx="12956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rc 29"/>
          <p:cNvSpPr/>
          <p:nvPr/>
        </p:nvSpPr>
        <p:spPr>
          <a:xfrm>
            <a:off x="5943600" y="3657600"/>
            <a:ext cx="76320" cy="457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6019920" y="350532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5638320" y="464832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rix for Orthographic Proj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754200" y="1793880"/>
            <a:ext cx="8985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20148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094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'= Mp =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495680" y="1523880"/>
                <a:ext cx="2403720" cy="24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rix for Perspective Proj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4"/>
          <p:cNvSpPr/>
          <p:nvPr/>
        </p:nvSpPr>
        <p:spPr>
          <a:xfrm flipV="1">
            <a:off x="1676520" y="21333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6765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3734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353760" y="3276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8"/>
          <p:cNvSpPr/>
          <p:nvPr/>
        </p:nvSpPr>
        <p:spPr>
          <a:xfrm flipV="1">
            <a:off x="1676520" y="2743200"/>
            <a:ext cx="1523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351960" y="25146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Y, -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24382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211120" y="320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1832040" y="2590920"/>
            <a:ext cx="89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-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14"/>
          <p:cNvSpPr/>
          <p:nvPr/>
        </p:nvSpPr>
        <p:spPr>
          <a:xfrm>
            <a:off x="24382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1905120" y="4114800"/>
                <a:ext cx="1257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1"/>
              <p:cNvSpPr txBox="1"/>
              <p:nvPr/>
            </p:nvSpPr>
            <p:spPr>
              <a:xfrm>
                <a:off x="2050920" y="5276880"/>
                <a:ext cx="1117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d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Line 17"/>
          <p:cNvSpPr/>
          <p:nvPr/>
        </p:nvSpPr>
        <p:spPr>
          <a:xfrm flipV="1">
            <a:off x="7391520" y="20570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18"/>
          <p:cNvSpPr/>
          <p:nvPr/>
        </p:nvSpPr>
        <p:spPr>
          <a:xfrm flipH="1">
            <a:off x="5562720" y="3200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19"/>
          <p:cNvSpPr/>
          <p:nvPr/>
        </p:nvSpPr>
        <p:spPr>
          <a:xfrm flipH="1" flipV="1">
            <a:off x="5714640" y="2590560"/>
            <a:ext cx="1676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20"/>
          <p:cNvSpPr/>
          <p:nvPr/>
        </p:nvSpPr>
        <p:spPr>
          <a:xfrm flipH="1">
            <a:off x="6324480" y="28195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5028480" y="22096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 -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173640" y="312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6251400" y="2438280"/>
            <a:ext cx="89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-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24"/>
          <p:cNvSpPr/>
          <p:nvPr/>
        </p:nvSpPr>
        <p:spPr>
          <a:xfrm flipH="1">
            <a:off x="57150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632448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335200" y="3124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74692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2"/>
              <p:cNvSpPr txBox="1"/>
              <p:nvPr/>
            </p:nvSpPr>
            <p:spPr>
              <a:xfrm>
                <a:off x="5791320" y="4051440"/>
                <a:ext cx="1257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3"/>
              <p:cNvSpPr txBox="1"/>
              <p:nvPr/>
            </p:nvSpPr>
            <p:spPr>
              <a:xfrm>
                <a:off x="5854680" y="5257800"/>
                <a:ext cx="11811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d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rix for Perspective Proj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838080" y="2770200"/>
                <a:ext cx="32767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Text Box 122"/>
          <p:cNvSpPr/>
          <p:nvPr/>
        </p:nvSpPr>
        <p:spPr>
          <a:xfrm>
            <a:off x="527760" y="20574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pective projection Matri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5029200" y="2809800"/>
                <a:ext cx="3276720" cy="21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z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d</m:t>
                                  </m:r>
                                </m:num>
                                <m:den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d</m:t>
                                  </m:r>
                                </m:num>
                                <m:den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ion plane is defined by the View Reference Point (VRP), a point on the view plane, and the View Plane Normal (VPN), a normal to the view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view plane can be anywhere with respect to the objects in the application model - behind, in front of or even cutting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we have the view plane (which defines an infinite 2D region) we now need to define a view window, so that objects outside the window are not displa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ng a view window requires us to define two principal axes in the view plane and then the maximum and minimum coordinates of the view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xes are an integral part of the Viewing Reference Coordinate (VRC)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RC has the VRP as it's origin, with the n axis defined by the VP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 axis of the VRC is defined by the View Up Vector (VUP), and thus the u axis follows from the assumption of a right handed coordinat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RP (point), VPN and VUP (directions) are specified in a right handed world (application model) coordinate syst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ew window is then defined by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971800" y="5143680"/>
            <a:ext cx="3429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ntre of Projection and Direction Of Projection are defined by a Projection Reference Point (PRP) and an indicator of the projection typ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projection is a perspective projection the the PRP is the centre of proje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projection is parallel, then the DOP is defined by the direction between the PRP and the centre of the projection wind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6103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ew volume of a perspective projection is the infinite volume defined by the combination of the PRP and the view window, which defines a pyrami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be contrasted to the view volume for a parallel projection which gives an infinite parallelepi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04880" y="3556080"/>
            <a:ext cx="78296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eneral we will not want the view volume to be infinite, rather we will want to limit the number of output primitives which are display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U-V-N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amera plane is defined by 3 parame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ew Reference Po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RP): A point (in the world frame) indicating the center of the camera's image plane. This specifies the position of the camera in sp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ew Plane Norm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PN): A unit vector perpendicular to the camera's image plane. This specifies the orientation of the came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ew 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UP): A vector indicating the up direction (in world coordinates) for the came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UVN vector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ion of VUP onto the image plane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erpendicular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se define 2 of our three basis vectors for the camera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define a third basis vector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uch th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gether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 up the camera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143000" y="1920960"/>
            <a:ext cx="3124080" cy="1676160"/>
          </a:xfrm>
          <a:prstGeom prst="parallelogram">
            <a:avLst>
              <a:gd name="adj" fmla="val 46596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2819520" y="169200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7"/>
          <p:cNvSpPr/>
          <p:nvPr/>
        </p:nvSpPr>
        <p:spPr>
          <a:xfrm flipV="1">
            <a:off x="2819520" y="214920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8"/>
          <p:cNvSpPr/>
          <p:nvPr/>
        </p:nvSpPr>
        <p:spPr>
          <a:xfrm flipH="1" flipV="1">
            <a:off x="2514240" y="1768320"/>
            <a:ext cx="304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9"/>
          <p:cNvSpPr/>
          <p:nvPr/>
        </p:nvSpPr>
        <p:spPr>
          <a:xfrm>
            <a:off x="2819520" y="275904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2743200" y="245412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895480" y="245412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59272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29360" y="1523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278520" y="222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821320" y="291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3505320" y="169236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267080" y="243828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P does not have to lie in the image 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9:11:44Z</dcterms:created>
  <dc:creator>Asim Israr</dc:creator>
  <dc:description/>
  <dc:language>en-US</dc:language>
  <cp:lastModifiedBy>Usman Ghauri</cp:lastModifiedBy>
  <dcterms:modified xsi:type="dcterms:W3CDTF">2013-07-10T07:33:27Z</dcterms:modified>
  <cp:revision>4</cp:revision>
  <dc:subject/>
  <dc:title>Specifications of 3D Views</dc:title>
</cp:coreProperties>
</file>