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F28-3D99-4537-8B52-936EE100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311-1F3F-495D-BC69-37572BF2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A44-1D96-473E-8699-3241B385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FCC-A696-4B87-A872-0F8DE90B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97FA-A13A-43F0-85EC-5556D5DE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E819-39B0-4832-8CC4-DECB52CC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6018-4FB1-453C-A2F6-9241E843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60A7-EDC4-4A07-926F-50A926AC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9860-74E4-4A89-9EB7-7583F627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DA6B-2B89-4FB5-9CEC-6813E19F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103F-7B7F-4E55-85A2-D0629C51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7D4-2221-4A1A-B37B-D759B476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F578-C28C-4FBB-BF9E-37ACB3EB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0D31-76F1-4996-9C08-9EE88B86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6F1E-4EE2-4B52-8B11-5CA76D78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F939-AB87-43B5-83B3-358C8282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84FF-1575-45F9-88DE-56959198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4B42-656E-4F1E-BF4F-23B86BD6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0DF5-90A7-468B-9ADD-07E2BDF3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2AD-75C1-46DB-80EE-457FC041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DC2-6BD4-453D-83FE-F035B1A2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C32B-89AA-4CF2-AB85-2BF67DEE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B77-122A-4532-ADCB-94BC1049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556-8138-4C53-BB46-C512845E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B38B-310D-4F12-9909-F3C89FFC6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D9D6-6571-46D2-9E83-06CB8404E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19120" y="1676520"/>
            <a:ext cx="4060800" cy="4602600"/>
            <a:chOff x="519120" y="1676520"/>
            <a:chExt cx="4060800" cy="460260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914400" y="1676520"/>
              <a:ext cx="349236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19120" y="4267080"/>
              <a:ext cx="40608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 bebé de la izquierda está viv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 bebé de la izquierda tiene derechos civil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 bebé de la izquierda naci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 las 24 semanas de gestació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 bebé de la izquierda se encuen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ajo la protección del código civi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658040" y="1676520"/>
            <a:ext cx="4227120" cy="4602600"/>
            <a:chOff x="4658040" y="1676520"/>
            <a:chExt cx="4227120" cy="460260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4800600" y="1676520"/>
              <a:ext cx="350208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658040" y="4267080"/>
              <a:ext cx="422712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 bebé de la derecha está muert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 bebé de la derecha no tiene derechos civil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 bebé de la derecha fue abort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 las 24 semanas de gestació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 bebé de la derecha fue ejecutado por 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ección, no penalizada por la ley, de su madr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57200" y="6400800"/>
            <a:ext cx="850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Queremos leyes que protejan la vida del no-nacido y la abolición de la ley que despenaliza el asesinato del abo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0:52:12Z</dcterms:created>
  <dc:creator>Taylor James</dc:creator>
  <dc:description/>
  <dc:language>en-US</dc:language>
  <cp:lastModifiedBy>Taylor James</cp:lastModifiedBy>
  <dcterms:modified xsi:type="dcterms:W3CDTF">2007-09-29T01:55:40Z</dcterms:modified>
  <cp:revision>9</cp:revision>
  <dc:subject/>
  <dc:title>Sin título de diapositiva</dc:title>
</cp:coreProperties>
</file>