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531F-3AF7-492A-A719-E7F9906B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A931-91B5-4623-B427-4BEF403C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5081-DEF8-4058-89DA-F0B73193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FCFA-46CD-4FF0-AAF8-59C89092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BD49-8C41-4617-A78B-C0A248815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34BD-4F3C-4333-8C77-FCEEF2CB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E9C1-180B-43E7-88CB-5FF9A73F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30BC-C1F4-4B76-9777-FCC710B6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90D1-5692-4DCA-812A-EC2416E9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8857-782C-4F09-ABEE-DAF23D11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E38F-61A3-4EDE-9B20-F28E7E16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E589-B0C6-4B41-B821-AC0082D1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F65A-D1EA-4660-B66B-539BE8CC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0E4C-7260-4878-B2AE-2A197DBF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A3D6-A79D-48FE-A224-2D91E82B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E477-2066-4DDB-8A5B-298A8E87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0FC4-5DDA-41A5-8F4B-ED356F53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D197-E526-4910-AF78-68EEF212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76C8-C29A-4406-ABFB-20F2CED4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B665-6DE7-4AF2-BE9E-AF21425C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E63E-D759-4171-ACCF-EDC7DE30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54F3-08AD-44A1-85C0-F2ECD16D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A874-9515-4228-A3C6-376D3F94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D01E-BF56-4A40-AACA-3042A963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7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FD81-DA0F-4154-9F72-184D0A8B9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7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2B58-5A49-4218-A886-59BA1F4E4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7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519120" y="1676520"/>
            <a:ext cx="4060800" cy="4602600"/>
            <a:chOff x="519120" y="1676520"/>
            <a:chExt cx="4060800" cy="460260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914400" y="1676520"/>
              <a:ext cx="3492360" cy="23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19120" y="4267080"/>
              <a:ext cx="406080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l bebé de la izquierda está viv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l bebé de la izquierda tiene derechos civile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l bebé de la izquierda naci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 las 24 semanas de gestación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l bebé de la izquierda se encuent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bajo la protección del código civil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658040" y="1676520"/>
            <a:ext cx="4227120" cy="4602600"/>
            <a:chOff x="4658040" y="1676520"/>
            <a:chExt cx="4227120" cy="460260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4800600" y="1676520"/>
              <a:ext cx="3502080" cy="23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4658040" y="4267080"/>
              <a:ext cx="422712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l bebé de la derecha está muert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l bebé de la derecha no tiene derechos civile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l bebé de la derecha fue abort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 las 24 semanas de gestación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l bebé de la derecha fue ejecutado por l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lección, no penalizada por la ley, de su madr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57200" y="6400800"/>
            <a:ext cx="850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Queremos leyes que protejan la vida del no-nacido y la abolición de la ley que despenaliza el asesinato del abo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00:52:12Z</dcterms:created>
  <dc:creator>Taylor James</dc:creator>
  <dc:description/>
  <dc:language>en-US</dc:language>
  <cp:lastModifiedBy>Taylor James</cp:lastModifiedBy>
  <dcterms:modified xsi:type="dcterms:W3CDTF">2007-09-29T01:55:40Z</dcterms:modified>
  <cp:revision>9</cp:revision>
  <dc:subject/>
  <dc:title>Sin título de diapositiva</dc:title>
</cp:coreProperties>
</file>