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rig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s-ES" sz="1200" spc="-1" strike="noStrike">
                <a:solidFill>
                  <a:srgbClr val="000000"/>
                </a:solidFill>
                <a:latin typeface="Marigold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E1B6B3-6C74-4940-B084-54BD2B9CFA70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D5244D-1367-4B5A-B2C4-3275FBA22CBF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rategia 3: Fortalecer el desarrollo de capacidades comunicativas relacionadas con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comprensión de textos a través de la práctica frecuente de las  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y aprendem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notici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 un sistema de autoevaluación del desarrollo de la comprensión lectora en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8912DB-AD7F-4934-A860-C4EDBC7642A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2E7450-0C68-4111-A372-EA24D85A62EF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1DB19B-1F5B-44E1-B098-AA04D54A3814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0429DF-FD9E-4239-B9CD-DB7E4C3C2734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Acuerdos para el momento de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 junto con los niños acuerdos que permit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iciar y mantener un clima de comodidad, tranquilidad y disfrute. Para lograr esto se sugiere el uso de algunos instrumentos musicales de la región, variaciones en la iluminación, utilización de diversos aromas, entre otros que predispongan favorablemente a los estudiantes haci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r el sistema de préstamo frecuente de libros a domicili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r la frecuencia de lectura semanal y el tiempo de lectura que se tendrá en el aula. Para el III ciclo (1° y 2° grados) se sugiere como máximo un promedio de 30 minutos diarios, período que se irá ampliando progresivamente a lo largo de toda la primaria, en función de los intereses y las habilidades lectoras de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los niños y las niñas elijan con libertad el texto de su interés, para que incorporen la lectura como una actividad cotidiana con propósitos autónom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B67A9D-2EE0-4A6E-BEA9-13F2D63150D5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Condiciones Básicas para fomentar la lectura recreativa en las aul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: deben ofrecer temas relacionados con el mundo imaginario de los niños, ser amenos, despertar la curiosidad, la inventiva y la imaginación. Por otro lado, para el III ciclo,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E17E51-2DFA-43FA-8439-63E0CE9360F8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 Actividades para la animación a la lecto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1 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No debe preocuparnos si al principio no todos los niños leen el libro y participan en la animación, cuando los niños no lectores vean lo divertido que puede resultar se irán incorporando a las animaciones. Es normal y conveniente que después de realizada la animación los niños vuelvan a leer el libro de manera voluntaria profundizando en la lectura con las pistas que la animación les ha proporciona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5248DA-7DED-42DE-AA8A-1C73435C0095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 Actividades para la animación a la lecto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1 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No debe preocuparnos si al principio no todos los niños leen el libro y participan en la animación, cuando los niños no lectores vean lo divertido que puede resultar se irán incorporando a las animaciones. Es normal y conveniente que después de realizada la animación los niños vuelvan a leer el libro de manera voluntaria profundizando en la lectura con las pistas que la animación les ha proporciona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4AA18A-E6C8-4336-904D-3B08D8EA9747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2 Estrategias para la animación lector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2.1 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 una experiencia en la que el docente selecciona una lectura y se prepara para leerla a los niños. Después, propone a los niños expresarse a través de diversos lenguajes, utilizando máscaras, títeres, dibujos o cambiando el final de la histori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e9e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Docente Lee a los Niños y Niñas y Anima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 una experiencia en la que el docente selecciona una lectura y se prepara para leerla a los niños. Después, propone a los niños expresarse a través de diversos lenguajes, utilizando máscaras, títeres, dibujos o cambiando el final de la histori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¿Qué aprenden los niños y niñas cuando el docente lee y anima la lectura?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es un medio para recrear realidades, imaginar y disfrutar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Comportamientos de lector que ve en el docente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btienen mayor información al leer textos más largos, a través de su maestr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expresan a través de diferentes lenguaj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dquieren diversas estrategias de lectura como leer un texto completo, releer, interrumpir la lectura y retomar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cuentran el significado a través de las preguntas que formula el docente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1097FB-84C0-484D-A95A-EA310FA0475D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3.3 Animaciones después de leer el libro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lert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actividades poslectoras serán consideradas siempre y cuando el propósito lector lo amerite. Por ejemplo, una lectura recreativa no requiere necesariamente una actividad adicional, en cambio, una lectura guiada podría incluir actividades que permitan expresar lo aprendi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dramatizaciones o escenas teatrales sobre lo leído; así como dibujos, modelados u otras representaciones motivadoras e interesantes para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otivar conversatorios abiertos, veladas literarias, exposiciones sobre lo leí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nvitar a los autores, dibujantes, diagramadores y editores de libros para que cuenten sus experiencias como t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l mismo gust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Nunca es tarde para convertirn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la medida que demos espacio a la lectura recreativa en el aula, nosotros también descubriremos el placer que esta genera. Así,  desarrollaremos hábitos lector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B826C66-8CE5-4148-BDC9-F63A5ED4E8F6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Plan Lector de Educación Primaria, de acuerdo con las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s para la organización y aplicación del Plan Lector en las Instituciones Educativas de Educación Básica Reg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aprobadas por RM N° 0386-2006, se define como un conjunto de estrategias par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fomentar, incitar y promover en los niños y niñas el apego a los libr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gusto por la lectura, a partir de situaciones creativas, lúdicas y placenteras, que despierten el interés, la inventiva y la sensibilidad; así como actitudes positivas en relación con la lectura como herramienta para el desarrollo de capacidades para la vida.</a:t>
            </a: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97B556-D522-44C0-84EE-41EB28ECE0C6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nuestro país no se ha desarrollado una sólida cultura lectora desde la familia, la escuela y la comunidad. Además, las pruebas Nacionales e Internacionales han demostrado los bajos niveles de comprensión de nuestros estudiantes. Esta situación ha llevado al Ministerio de Educación del Perú, en su rol normativo y orientador, a  implementar un conjunto de estrategias dirigidas a movilizar a la sociedad con el fin de revertir dicha situac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21D92C-EFF0-4DE2-932B-F1847383FEAD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logro de las capacidades comunicativas relacionadas con la comprensión de textos, supone el desarrollo previo de hábitos lectores. Para lograrlo es importante brindar situaciones de lectura recreativa y placentera desde los primeros años de edad que permitan a los niños acercarse voluntariamente a los libros. Esto los dispondrá afectivamente  hacia la lectura convirtiéndol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r un lector habitual quiere decir haber incorporado la lectura a la vida cotidiana , esto favorecerá la adquisición, el desarrollo y la consolidación de las capacidades comunicativas para la comprensión de diversos tipos de textos, que permitirán a los niños y niñas aprender con autonomía durante toda su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382E7C-3605-45B9-991D-7AF6E70FBE19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e propósito  prioriza el acercamiento libre a los textos por parte de los niños y niñas, considerando sus propios intereses y motivados por sus propias intenciones lectoras.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este espacio y tiempo de lectura placentera no caben más que el disfrute, el goce y la recreación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entendida esta última, sobre todo, como la posibilidad de re-crear aquello que nos ha trascendido, conmovido, ya sea mediante la representación teatral, plástica, lúdica , etc. Este tipo de lectura no implica la comprobación final de lo leído con fines de evaluación calificada o, lo que es peor, con intenciones impuestas. Lo que sí es favorable a este propósito de lectura  es el acompañamiento estratégico del docente. Para lograrlo planteará situaciones que favorecen el placer por leer  y verificará el desarrollo de procesos conducentes al gusto por la lectura. Esto favorecerá el desarrollo del hábito lector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54DA006-10C9-4098-961E-05EC6A0A29BE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uego de iniciado el desarrollo del hábito lector, se plantea otro propósito importante: desarrollar paralela y complementariamente las capacidades comunicativas para la comprensión de textos. Este propósito alterno y complementario está ligado directamente  a las áreas curriculares, a la programación de los aprendizajes que se desean desarrollar y pueden ser verificado y comprobado mediante criterios de evaluación que dan cuenta del desempeño de los niños y niñas   A la lectura con este propósito se la denomina lectura de estudio y ofrece importantes posibilidades de evaluación. La evaluación permite comprobar  cómo y cuan bien se están desarrollando las capacidades  relacionadas con la comprensión lector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0504BD-C1EE-44E8-9EB6-CB1F9E601C81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lantean 3 estrategias para lograr los 2 propósito fundamentales del Pl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nsibilización y movilización social por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rtalecer el desarrollo de capacidades comunicativas relacionadas 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965FFB4-C631-447A-9F48-90482EBCBABC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 estrategia se desarrollará a través de las siguientes activida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una Campaña Nacional de recolección de libros que permita una respuesta masiva de la sociedad civil a los requerimientos de las escuelas para la implementación de sus bibliotecas de aul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tilizar los medios de comunicación para promocionar la lectura en la sociedad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una biblioteca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tiner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ara que las familias accedan a la lectura como una experiencia grata y enriquecedora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concursos municipales que promuevan la promoción de la lectur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r la visita de las familias a las bibliotecas existentes en la comunidad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 involucrar a las asociaciones civiles, ONG vinculadas con el fomento a la lectura para que visiten los hogares, sobre todo aquellos que están en e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rograma Juntos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56040" y="8774280"/>
            <a:ext cx="302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8CB273-FB59-4CD4-B61A-629293FA8515}" type="slidenum">
              <a:rPr b="0" lang="es-ES" sz="1200" spc="-1" strike="noStrike">
                <a:solidFill>
                  <a:srgbClr val="000000"/>
                </a:solidFill>
                <a:latin typeface="Marig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niños por la lectura  a través de la práctica frecuente de las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 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indent="0" algn="just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concursos de actividades innovadoras para promover la lectura recreativa entre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31B-7AB9-4653-A674-9D6FCD09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250-D382-4298-B242-FE07E28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972-AA85-42D2-9571-6E899B7E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4A6-850F-4CD2-B96C-DEE2A67B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1B84-6893-4E01-897F-02EC8C7D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636D-47FA-4EBE-931E-BA4E0719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5B97-3314-4482-8C16-BDA08BE9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FE1C-F76B-45AB-9748-2F9461B4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8238-A642-4F63-9818-681A3FF3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9AB-DE50-4AAC-8A2C-B4516CA8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C736-9073-41D1-B9E2-DF73246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EE6-5DD7-4F62-B061-BAB63958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E353-EE5E-4C93-B76D-1F693FE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C78-7785-45A6-BD06-2DBDBA5B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9F6-7306-40D1-9AAF-D10B6E9B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B3B-D5C9-4D79-AB76-141F5B3F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C24-7530-4992-B7FC-90C5B6FC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7EB-6AA4-4097-B805-17DC4C8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145-A7BE-489B-8F06-7C20A67E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B55-B60F-4177-9DCA-EEAA8842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3B5-AFBD-4271-885E-869DDCFC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B7D-10D5-4562-81ED-2454641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FA4-8C7A-4EE6-A36D-58EDC96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4D4-354E-41DA-8545-057583A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rigold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C09-CAA2-4DAE-AFA6-AF3088DE21FC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rigold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rigold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EF2-4239-4EBC-8FD0-88E0E6C99397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                      </a:t>
            </a: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Leer para sentir</a:t>
            </a:r>
            <a:br>
              <a:rPr sz="2000"/>
            </a:b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                     </a:t>
            </a:r>
            <a:r>
              <a:rPr b="0" lang="es-PE" sz="4200" spc="-1" strike="noStrike">
                <a:solidFill>
                  <a:srgbClr val="ffffff"/>
                </a:solidFill>
                <a:latin typeface="Palatino Linotype"/>
              </a:rPr>
              <a:t>Plan Lector</a:t>
            </a:r>
            <a:r>
              <a:rPr b="0" lang="es-PE" sz="4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es-PE" sz="2000" spc="-1" strike="noStrike">
                <a:solidFill>
                  <a:srgbClr val="ff6600"/>
                </a:solidFill>
                <a:latin typeface="Palatino Linotype"/>
              </a:rPr>
              <a:t>Leer para aprend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1912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05120" y="57150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85800" y="1752480"/>
            <a:ext cx="1066680" cy="5185800"/>
          </a:xfrm>
          <a:prstGeom prst="rect">
            <a:avLst/>
          </a:prstGeom>
          <a:solidFill>
            <a:srgbClr val="95ca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405160" y="6181560"/>
            <a:ext cx="60958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Palatino Linotype"/>
              </a:rPr>
              <a:t>Dirección de Educación Primaria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358128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7861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36860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34815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1981080" y="1905120"/>
            <a:ext cx="6934320" cy="3919320"/>
            <a:chOff x="1981080" y="1905120"/>
            <a:chExt cx="6934320" cy="3919320"/>
          </a:xfrm>
        </p:grpSpPr>
        <p:pic>
          <p:nvPicPr>
            <p:cNvPr id="136" name="Picture 18" descr=""/>
            <p:cNvPicPr/>
            <p:nvPr/>
          </p:nvPicPr>
          <p:blipFill>
            <a:blip r:embed="rId1"/>
            <a:stretch/>
          </p:blipFill>
          <p:spPr>
            <a:xfrm>
              <a:off x="1981080" y="1905120"/>
              <a:ext cx="1981440" cy="21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0" descr=""/>
            <p:cNvPicPr/>
            <p:nvPr/>
          </p:nvPicPr>
          <p:blipFill>
            <a:blip r:embed="rId2"/>
            <a:stretch/>
          </p:blipFill>
          <p:spPr>
            <a:xfrm>
              <a:off x="6781680" y="3962520"/>
              <a:ext cx="2133720" cy="18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8" descr="2 boys reading.jpg (51398 bytes)"/>
            <p:cNvPicPr/>
            <p:nvPr/>
          </p:nvPicPr>
          <p:blipFill>
            <a:blip r:embed="rId3"/>
            <a:stretch/>
          </p:blipFill>
          <p:spPr>
            <a:xfrm>
              <a:off x="4267080" y="2971800"/>
              <a:ext cx="2362320" cy="1681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10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rategi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Fortalecer las capacidades comunicativas relacionadas con la 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828800" y="1905120"/>
            <a:ext cx="6934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comprensión de textos a través de la práctica frecuente de las  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y aprendem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eemos noticia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 un sistema de autoevaluación del desarrollo de la comprensión lectora en las Instituciones Educativas.</a:t>
            </a:r>
            <a:r>
              <a:rPr b="0" lang="es-ES" sz="22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Nota: </a:t>
            </a:r>
            <a:r>
              <a:rPr b="1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be recordar que en esta primera etapa de implementación del Plan Lector de Educación Primaria, se trabajará sólo el primer propósito: Desarrollar hábitos lectores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81080" y="1981080"/>
            <a:ext cx="693432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Condiciones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ásicas para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desarrollar hábi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módulos, armarios, bibliotecas o estantes con la participación de los padres de familia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campañas de recolección de libros y otro material impreso con la participación de los padres de familia , estudiantes, docentes y la comunidad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95" name="Picture 8" descr="Wilson Sharon - The Reading"/>
          <p:cNvPicPr/>
          <p:nvPr/>
        </p:nvPicPr>
        <p:blipFill>
          <a:blip r:embed="rId1"/>
          <a:stretch/>
        </p:blipFill>
        <p:spPr>
          <a:xfrm>
            <a:off x="0" y="5452920"/>
            <a:ext cx="1828800" cy="14050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981080" y="1676520"/>
            <a:ext cx="693432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libros que se ofrezcan deben responder a las características y los intereses de los niño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 a su mund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imaginari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ser amenos, despertar la curiosidad, la inventiva y la imaginación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ra el III ciclo deben preferirse libros con imágenes coloridas, dinámicas y textos cortos pero completos y con letras gran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la biblioteca de aula, de modo que los libros estén al alcance de los niños con la portada a la vist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981080" y="1676520"/>
            <a:ext cx="693432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r un espacio de lectura en el que se utilice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mantas, petates, cojines, pellejos de carnero u oveja con el propósito de generar un clima cómodo,  atractivo y afectiv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 fundamental que el docente evidencie su gusto por la lectura para transmitir ese mismo agrado en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padres de familia y a toda la comunidad a participar en el tiempo destinado a la lectura, para que sean lectores model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981080" y="1676520"/>
            <a:ext cx="693432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uerdos para el momento de la lectura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iciar y mantener un clima de comodidad, tranquilidad y disfrute. Para lograr esto se sugiere el uso de algunos instrumentos musicales de la región, variaciones en la iluminación, utilización de diversos aromas, entre otros que predispongan favorablemente a los estudiantes haci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mplementar el sistema de préstamo frecuente de libros a domicili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11" name="Picture 8" descr="Reading is Fundamental"/>
          <p:cNvPicPr/>
          <p:nvPr/>
        </p:nvPicPr>
        <p:blipFill>
          <a:blip r:embed="rId1"/>
          <a:stretch/>
        </p:blipFill>
        <p:spPr>
          <a:xfrm>
            <a:off x="0" y="4952880"/>
            <a:ext cx="1714680" cy="19051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981080" y="2193840"/>
            <a:ext cx="693432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ablecer la frecuencia de lectura semanal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y el moment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 lectura que se tendrá en el aula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4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Que los niños y las niñas elijan con libertad el texto de su interés, para que incorporen la lectura como una actividad cotidiana con propósitos autónom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1981080" y="1843200"/>
            <a:ext cx="69343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 Actividades de animación a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1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para la animación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utilizarse un libro completo, no un fragment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be presentarse el libro: título, autor, ilustrador, traductor, editorial... adaptando la información a la edad del niñ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s animaciones necesitan desarrollarse en forma continua y varia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ser voluntaria: el niño debe querer participar. Nunca debe convertirse en una actividad más de clase, es algo distinto que tiene que ver más con la diversión y el juego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2971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29" name="Picture 7" descr="http://rds.yahoo.com/S=96062883/K=lectura/v=2/SID=e/l=IVS/SIG=13b5m961v/EXP=1106326658/*-http%3A//www.hogardelarte.com/CarpetaDibujos/CarpetaExcan/DibuEscan1/Damas-11/Lectura.jpg"/>
          <p:cNvPicPr/>
          <p:nvPr/>
        </p:nvPicPr>
        <p:blipFill>
          <a:blip r:embed="rId1"/>
          <a:stretch/>
        </p:blipFill>
        <p:spPr>
          <a:xfrm>
            <a:off x="0" y="54990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981080" y="1843200"/>
            <a:ext cx="693432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debe promover la participación: el niño debe ser protagonista. El  animador promoverá que todos intervengan, teniendo especial cuidado en la participación de los niños más retraíd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animación no es competitiva: no se trata de ganar o perder, no hay notas ni calificaciones. El animador alabará los aciertos, pero quitará importancia a las equivocaciones. Procurará invitar a los niños a ayudar a los compañeros que no sepa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ueden realizar en cualquier lugar: biblioteca pública o escolar, aula, hogar..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981080" y="1676520"/>
            <a:ext cx="6934320" cy="64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2. Estrategias para la animación lectora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 principio se trata de poner a los niños en contacto con diferentes tipos de textos, par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que ellos los exploren, hojeen, pregunten, pidan que les lean, se detengan en las ilustracione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selecciona una lectura y se prepara para leerla a los niños. Después,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le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pone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a expresarse 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través de diversos lenguajes, utilizando máscaras, títeres, dibujos o cambiando el final de la histori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: 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trata de trabajar con canciones que tienen una historia o se relata un cuento. Se anima con una melodí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Nota: ver Anexo 1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PE" sz="3300" spc="-1" strike="noStrike">
                <a:solidFill>
                  <a:srgbClr val="000000"/>
                </a:solidFill>
                <a:latin typeface="Arial Narrow"/>
                <a:ea typeface="Arial"/>
              </a:rPr>
              <a:t>Propósito 1°:</a:t>
            </a:r>
            <a:r>
              <a:rPr b="1" lang="es-PE" sz="3400" spc="-1" strike="noStrike">
                <a:solidFill>
                  <a:srgbClr val="000000"/>
                </a:solidFill>
                <a:latin typeface="Arial Narrow"/>
                <a:ea typeface="Arial"/>
              </a:rPr>
              <a:t> Desarrollar hábitos lectores (animación)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81080" y="2193840"/>
            <a:ext cx="6934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981080" y="1752480"/>
            <a:ext cx="6934320" cy="63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3. Actividades adicional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alizar dramatizaciones o escenas teatrales sobre lo leído; así como dibujos, modelados u otras representaciones motivadoras e interesantes para los niñ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Motivar conversatorios abiertos, veladas literarias, exposiciones sobre lo leíd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nvitar a los autores, dibujantes, diagramadores y editores de libros para que cuenten sus experiencias como t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44" name="Picture 9" descr=""/>
          <p:cNvPicPr/>
          <p:nvPr/>
        </p:nvPicPr>
        <p:blipFill>
          <a:blip r:embed="rId1"/>
          <a:stretch/>
        </p:blipFill>
        <p:spPr>
          <a:xfrm>
            <a:off x="0" y="5130720"/>
            <a:ext cx="1752480" cy="1727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Qué es el Plan Lector de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41" name="Picture 4" descr="2 boys reading.jpg (51398 bytes)"/>
          <p:cNvPicPr/>
          <p:nvPr/>
        </p:nvPicPr>
        <p:blipFill>
          <a:blip r:embed="rId1"/>
          <a:stretch/>
        </p:blipFill>
        <p:spPr>
          <a:xfrm>
            <a:off x="0" y="5511960"/>
            <a:ext cx="1752480" cy="1346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8400" y="1905120"/>
            <a:ext cx="670068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ormas para la organización y aplicación del Plan Lector en las Instituciones Educativas de Educación Básica Reg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, aprobadas por RM N° 0386-2006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Desde EP s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como un conjunto de estrategias para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mentar, incitar y promover en los niños y niñas el apego a los libro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gusto por la lectura, a partir de situaciones creativas, lúdicas y placenteras, que despierten el interés, la inventiva y la sensibilidad; así como actitudes positivas en relación con la lectura como herramienta para el desarrollo de capacidades para la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175248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48640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d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752480" y="2057400"/>
            <a:ext cx="3505320" cy="4623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ner los libros al alcance de los niños, ordenados con los lomos o la portada a la vist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os espacios destinados a la lectura ofrecen comodidad, tranquilidad, limpieza, con cojines, mantas, petates..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Utilizar textos completos para animar a la lectur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arle el tiempo y el espacio necesarios a la animación a la lectura.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gerir una actividad previa y posterior para animar a la lectura y re-crear lo leí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410080" y="2057400"/>
            <a:ext cx="3505320" cy="4368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ener los libros encajonados, en un cuarto cerrado o fuera del alcance de los niños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pacios destinados a la lectura no brindan comodidad, tranquilidad; están sucios, desordenados, son ruidosos y sin ventilación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r fragmentos de obras o fotocopias de libros o copias descoloridas para realizar las animaciones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r la animación en una clase más, con tareas finales o actividades de evaluación calificad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9526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8671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75248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486400" y="380880"/>
            <a:ext cx="3505320" cy="1462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o que se hace para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d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imar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lectura</a:t>
            </a:r>
            <a:endParaRPr b="0" lang="en-US" sz="28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752480" y="1981080"/>
            <a:ext cx="3505320" cy="42850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animación se convierte en una oportunidad para el sosiego, el despliegue de la imaginación y la fantasí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ugerir, animar y contagiar a los niños a participar en la animación. La animación debe ser voluntaria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Elegir los libros en función de los intereses y el gusto del niño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arle la oportunidad a los niños para que dejen de leer un libro que no despierta su interés o no logra atraparlos y  que busquen otro texto.</a:t>
            </a:r>
            <a:r>
              <a:rPr b="1" lang="es-ES" sz="1600" spc="-1" strike="noStrike">
                <a:solidFill>
                  <a:srgbClr val="000000"/>
                </a:solidFill>
                <a:latin typeface="Marigold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Marig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410080" y="1981080"/>
            <a:ext cx="3505320" cy="473940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 los niños a que realicen un trabajo o actividad sobre el libro leído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 la animación se convierta en agitación, tensión y disconformidad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 los niños a participar en la animación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egir los libros en función sólo de nuestros gustos o desde el punto de vista estético, literario o moralizante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r al niño o niña a que termine de leer todo el libro, pese a que ya no despierta su interés o no se siente motivado a continuar la lectura. </a:t>
            </a:r>
            <a:endParaRPr b="0" lang="en-US" sz="16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9526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256" name="Picture 7" descr="reading.jpg"/>
          <p:cNvPicPr/>
          <p:nvPr/>
        </p:nvPicPr>
        <p:blipFill>
          <a:blip r:embed="rId3"/>
          <a:stretch/>
        </p:blipFill>
        <p:spPr>
          <a:xfrm>
            <a:off x="0" y="5348160"/>
            <a:ext cx="1752480" cy="15098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qué u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lan Lector 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6" name="Text Box 1029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7" name="Text Box 1030"/>
          <p:cNvSpPr/>
          <p:nvPr/>
        </p:nvSpPr>
        <p:spPr>
          <a:xfrm>
            <a:off x="2138400" y="1905120"/>
            <a:ext cx="670068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n nuestro país no se ha desarrollado una sólida cultura lectora desde la familia, la escuela y la comunidad. Además, las pruebas Nacionales e Internacionales han demostrado los bajos niveles de comprensión de nuestros estudiantes. Esta situación ha llevado al Ministerio de Educación del Perú, en su rol normativo y orientador, a  implementar un conjunto de estrategias dirigidas a movilizar a la sociedad con el fin de revertir dicha situac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48" name="Rectangle 1032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¿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qué u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lan Lector </a:t>
            </a: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Educación Primaria?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38400" y="1905120"/>
            <a:ext cx="670068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logro de las capacidades comunicativas relacionadas con la comprensión de textos, supone el desarrollo previo de hábitos lectores. Para lograrlo es importante brindar situaciones de lectura recreativa y placentera desde los primeros años de edad que permitan a los niños acercarse voluntariamente a los libros. Esto los dispondrá afectivamente  hacia la lectura convirtiéndolos en lectores habitual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r un lector habitual quiere decir haber incorporado la lectura a la vida cotidiana , esto favorecerá la adquisición, el desarrollo y la consolidación de las capacidades comunicativas para la comprensión de diversos tipos de textos, que permitirán a los niños y niñas aprender con autonomía durante toda su vid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Plan Lector en EP tiene 2 propósitos fundamentales: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828800" y="1905120"/>
            <a:ext cx="70102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º Desarrollar hábitos lectores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prioriz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 acercamiento libre a los textos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os intereses de los niños y niñ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l uso de estrategias variadas de animación.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re-creación lúdica, plástica de lo leído sin imposiciones, evaluaciones calificad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El acompañamiento estratégico de la lectur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verificación formativa para reajustar las estrategi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0" y="4267080"/>
          <a:ext cx="19051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7080"/>
                    <a:ext cx="19051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Plan Lector en EP tiene 2 propósitos fundamentales: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828800" y="1905120"/>
            <a:ext cx="701028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º Desarrollar </a:t>
            </a:r>
            <a:r>
              <a:rPr b="1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capacidades par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Se prioriza, de manera alterna y complementaria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s capacidades comunicativas relacionadas con la comprensión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de estudio, ligada directamente a las áreas curriculares, a la programación y la evaluación con sus respectivos indicadores y niveles de logro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Nota: </a:t>
            </a:r>
            <a:r>
              <a:rPr b="1" i="1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abe señalar que en esta primera etapa de implementación del Plan Lector de Educación Primaria, se trabajará sólo el primer propósito: Desarrollar hábitos lectores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12416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¿Qué haremo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138400" y="1905120"/>
            <a:ext cx="67006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plantean 3 estrategias para lograr los 2 propósito fundamentales del Plan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P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nsibilización y movilización social por la lectura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Promo</a:t>
            </a: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ción d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la lectura recreativa y de disfrute en la escuela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ortalecer el desarrollo de capacidades comunicativas relacionadas a la comprensión de texto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54348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strategia 1: Sensibilizaci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n y 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movilizaci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n social por la lectur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0"/>
            <a:ext cx="175248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81080" y="1547640"/>
            <a:ext cx="69343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Mediante las siguiente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ctividade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ulsar una Campaña Nacional de recolección de libros que permita una respuesta masiva de la sociedad civil a los requerimientos de las escuelas para la implementación de sus bibliotecas de aul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tilizar los medios de comunicación para promocionar la lectura en la sociedad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ar una biblioteca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tiner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ara que las familias accedan a la lectura como una experiencia grata y enriquecedora. 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concursos municipales que promuevan la promoción de la lectur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corporar la visita de las familias a las bibliotecas existentes en la comunidad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 involucrar a las asociaciones civiles, ONG vinculadas con el fomento a la lectura para que visiten a las familias que no pueden acudir a la biblioteca.</a:t>
            </a:r>
            <a:endParaRPr b="0" lang="en-US" sz="20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7652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pic>
        <p:nvPicPr>
          <p:cNvPr id="179" name="Picture 9" descr="http://rds.yahoo.com/S=96062883/K=lectura/v=2/SID=e/l=IVS/SIG=12nf14ffp/EXP=1106326077/*-http%3A//www.jornada.unam.mx/2002/abr02/020428/Images/mas-lectura.jpg"/>
          <p:cNvPicPr/>
          <p:nvPr/>
        </p:nvPicPr>
        <p:blipFill>
          <a:blip r:embed="rId1"/>
          <a:stretch/>
        </p:blipFill>
        <p:spPr>
          <a:xfrm>
            <a:off x="0" y="55627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</a:t>
            </a:r>
            <a:r>
              <a:rPr b="1" lang="es-PE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s-PE" sz="3000" spc="-1" strike="noStrike">
                <a:solidFill>
                  <a:srgbClr val="000000"/>
                </a:solidFill>
                <a:latin typeface="Arial"/>
                <a:ea typeface="Arial"/>
              </a:rPr>
              <a:t>Promover la lectura recreativa y de disfrute en la escuela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53836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0"/>
            <a:ext cx="1676520" cy="379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828800" y="2117880"/>
            <a:ext cx="6934320" cy="45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Animar a los niños por la lectura  a través de la práctica frecuente de las siguientes actividades: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l cuentacuentos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a lectura libre por placer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canticuentos o cuentos cantados  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alizar concursos de actividades innovadoras para promover la lectura recreativa entre las Instituciones Educativas.</a:t>
            </a: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Marigol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6704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rigold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22:34:14Z</dcterms:created>
  <dc:creator>HBECERRA</dc:creator>
  <dc:description/>
  <dc:language>en-US</dc:language>
  <cp:lastModifiedBy>WinuE</cp:lastModifiedBy>
  <dcterms:modified xsi:type="dcterms:W3CDTF">2009-10-08T17:00:34Z</dcterms:modified>
  <cp:revision>63</cp:revision>
  <dc:subject/>
  <dc:title>Plan Lector </dc:title>
</cp:coreProperties>
</file>