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rig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s-ES" sz="1200" spc="-1" strike="noStrike">
                <a:solidFill>
                  <a:srgbClr val="000000"/>
                </a:solidFill>
                <a:latin typeface="Marigold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67C13D-7B7C-4250-BCE8-49901DA71818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C60E2D-52AF-48F0-9FC9-DB15506389BE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rategia 3: Fortalecer el desarrollo de capacidades comunicativas relacionadas con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comprensión de textos a través de la práctica frecuente de las  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y aprendem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notici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ción de un sistema de autoevaluación del desarrollo de la comprensión lectora en las Instituciones Educativ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7D259D-B3AD-4CBD-860D-4524CEBE580B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37385A-A012-4AB7-92D6-D80BA8929CD2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0CB8A8-DC74-4FA2-840E-C03C77532338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FEE088-4790-427E-8430-D4EC118D7258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Acuerdos para el momento de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blece junto con los niños acuerdos que permitan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piciar y mantener un clima de comodidad, tranquilidad y disfrute. Para lograr esto se sugiere el uso de algunos instrumentos musicales de la región, variaciones en la iluminación, utilización de diversos aromas, entre otros que predispongan favorablemente a los estudiantes hacia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r el sistema de préstamo frecuente de libros a domicili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blecer la frecuencia de lectura semanal y el tiempo de lectura que se tendrá en el aula. Para el III ciclo (1° y 2° grados) se sugiere como máximo un promedio de 30 minutos diarios, período que se irá ampliando progresivamente a lo largo de toda la primaria, en función de los intereses y las habilidades lectoras de los niñ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Que los niños y las niñas elijan con libertad el texto de su interés, para que incorporen la lectura como una actividad cotidiana con propósitos autónom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437B96-59E8-4B89-BC47-902532CD9963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90AEB5-315F-4053-9733-A3BAA2FF2D56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 Actividades para la animación a la lecto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1 Condiciones para la animación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utilizarse un libro completo, no un fragment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presentarse el libro: título, autor, ilustrador, traductor, editorial... adaptando la información a la edad del niñ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s animaciones necesitan desarrollarse en forma continua y varia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ser voluntaria: el niño debe querer participar. Nunca debe convertirse en una actividad más de clase, es algo distinto que tiene que ver más con la diversión y el juego. No debe preocuparnos si al principio no todos los niños leen el libro y participan en la animación, cuando los niños no lectores vean lo divertido que puede resultar se irán incorporando a las animaciones. Es normal y conveniente que después de realizada la animación los niños vuelvan a leer el libro de manera voluntaria profundizando en la lectura con las pistas que la animación les ha proporciona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promover la participación: el niño debe ser protagonista. El  animador promoverá que todos intervengan, teniendo especial cuidado en la participación de los niños más retraíd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no es competitiva: no se trata de ganar o perder, no hay notas ni calificaciones. El animador alabará los aciertos, pero quitará importancia a las equivocaciones. Procurará invitar a los niños a ayudar a los compañeros que no sepa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ueden realizar en cualquier lugar: biblioteca pública o escolar, aula, hogar..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46C8C6-C66B-4B83-BAE7-74914C217C37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 Actividades para la animación a la lecto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1 Condiciones para la animación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utilizarse un libro completo, no un fragment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presentarse el libro: título, autor, ilustrador, traductor, editorial... adaptando la información a la edad del niñ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s animaciones necesitan desarrollarse en forma continua y varia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ser voluntaria: el niño debe querer participar. Nunca debe convertirse en una actividad más de clase, es algo distinto que tiene que ver más con la diversión y el juego. No debe preocuparnos si al principio no todos los niños leen el libro y participan en la animación, cuando los niños no lectores vean lo divertido que puede resultar se irán incorporando a las animaciones. Es normal y conveniente que después de realizada la animación los niños vuelvan a leer el libro de manera voluntaria profundizando en la lectura con las pistas que la animación les ha proporciona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promover la participación: el niño debe ser protagonista. El  animador promoverá que todos intervengan, teniendo especial cuidado en la participación de los niños más retraíd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no es competitiva: no se trata de ganar o perder, no hay notas ni calificaciones. El animador alabará los aciertos, pero quitará importancia a las equivocaciones. Procurará invitar a los niños a ayudar a los compañeros que no sepa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ueden realizar en cualquier lugar: biblioteca pública o escolar, aula, hogar..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038A5C-67D3-46B3-98CF-3781167E1645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2 Estrategias para la animación lector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2.1 El cuentacuent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 es una experiencia en la que el docente selecciona una lectura y se prepara para leerla a los niños. Después, propone a los niños expresarse a través de diversos lenguajes, utilizando máscaras, títeres, dibujos o cambiando el final de la histori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e9e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Docente Lee a los Niños y Niñas y Anima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 es una experiencia en la que el docente selecciona una lectura y se prepara para leerla a los niños. Después, propone a los niños expresarse a través de diversos lenguajes, utilizando máscaras, títeres, dibujos o cambiando el final de la historia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¿Qué aprenden los niños y niñas cuando el docente lee y anima la lectura?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Que es un medio para recrear realidades, imaginar y disfrutar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Comportamientos de lector que ve en el docente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btienen mayor información al leer textos más largos, a través de su maestr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expresan a través de diferentes lenguaj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dquieren diversas estrategias de lectura como leer un texto completo, releer, interrumpir la lectura y retomarl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cuentran el significado a través de las preguntas que formula el docente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E40745-E5F2-4A30-85DE-B314678A2B4B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3 Animaciones después de leer el libro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Alert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s actividades poslectoras serán consideradas siempre y cuando el propósito lector lo amerite. Por ejemplo, una lectura recreativa no requiere necesariamente una actividad adicional, en cambio, una lectura guiada podría incluir actividades que permitan expresar lo aprendi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alizar dramatizaciones o escenas teatrales sobre lo leído; así como dibujos, modelados u otras representaciones motivadoras e interesantes para los niñ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otivar conversatorios abiertos, veladas literarias, exposiciones sobre lo leí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nvitar a los autores, dibujantes, diagramadores y editores de libros para que cuenten sus experiencias como t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l mismo gust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Nunca es tarde para convertirnos en lectores habitu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la medida que demos espacio a la lectura recreativa en el aula, nosotros también descubriremos el placer que esta genera. Así,  desarrollaremos hábitos lector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1CC905-225B-4618-92E9-4566998A7983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Plan Lector de Educación Primaria, de acuerdo con la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rmas para la organización y aplicación del Plan Lector en las Instituciones Educativas de Educación Básica Reg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aprobadas por RM N° 0386-2006, se define como un conjunto de estrategias par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mentar, incitar y promover en los niños y niñas el apego a los libro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gusto por la lectura, a partir de situaciones creativas, lúdicas y placenteras, que despierten el interés, la inventiva y la sensibilidad; así como actitudes positivas en relación con la lectura como herramienta para el desarrollo de capacidades para la vida.</a:t>
            </a: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387A29-293D-4713-BF66-EE6D67F766E9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nuestro país no se ha desarrollado una sólida cultura lectora desde la familia, la escuela y la comunidad. Además, las pruebas Nacionales e Internacionales han demostrado los bajos niveles de comprensión de nuestros estudiantes. Esta situación ha llevado al Ministerio de Educación del Perú, en su rol normativo y orientador, a  implementar un conjunto de estrategias dirigidas a movilizar a la sociedad con el fin de revertir dicha situació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F603C2-0352-484F-9DB2-8EAC1A501D8F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logro de las capacidades comunicativas relacionadas con la comprensión de textos, supone el desarrollo previo de hábitos lectores. Para lograrlo es importante brindar situaciones de lectura recreativa y placentera desde los primeros años de edad que permitan a los niños acercarse voluntariamente a los libros. Esto los dispondrá afectivamente  hacia la lectura convirtiéndolos en lectores habitu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r un lector habitual quiere decir haber incorporado la lectura a la vida cotidiana , esto favorecerá la adquisición, el desarrollo y la consolidación de las capacidades comunicativas para la comprensión de diversos tipos de textos, que permitirán a los niños y niñas aprender con autonomía durante toda su vi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F52374-D140-4DDA-AC0D-34BB75B7445B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e propósito  prioriza el acercamiento libre a los textos por parte de los niños y niñas, considerando sus propios intereses y motivados por sus propias intenciones lectoras.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este espacio y tiempo de lectura placentera no caben más que el disfrute, el goce y la recreación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entendida esta última, sobre todo, como la posibilidad de re-crear aquello que nos ha trascendido, conmovido, ya sea mediante la representación teatral, plástica, lúdica , etc. Este tipo de lectura no implica la comprobación final de lo leído con fines de evaluación calificada o, lo que es peor, con intenciones impuestas. Lo que sí es favorable a este propósito de lectura  es el acompañamiento estratégico del docente. Para lograrlo planteará situaciones que favorecen el placer por leer  y verificará el desarrollo de procesos conducentes al gusto por la lectura. Esto favorecerá el desarrollo del hábito lector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E5A4F4-2F59-4308-8180-C62F68814D84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uego de iniciado el desarrollo del hábito lector, se plantea otro propósito importante: desarrollar paralela y complementariamente las capacidades comunicativas para la comprensión de textos. Este propósito alterno y complementario está ligado directamente  a las áreas curriculares, a la programación de los aprendizajes que se desean desarrollar y pueden ser verificado y comprobado mediante criterios de evaluación que dan cuenta del desempeño de los niños y niñas   A la lectura con este propósito se la denomina lectura de estudio y ofrece importantes posibilidades de evaluación. La evaluación permite comprobar  cómo y cuan bien se están desarrollando las capacidades  relacionadas con la comprensión lectora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73CD0B-AF18-4457-952F-53BD87D7B091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lantean 3 estrategias para lograr los 2 propósito fundamentales del Plan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nsibilización y movilización social por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ortalecer el desarrollo de capacidades comunicativas relacionadas a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1DE181-61B4-4FBD-8E88-A859A6A3FB57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 estrategia se desarrollará a través de las siguientes activida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una Campaña Nacional de recolección de libros que permita una respuesta masiva de la sociedad civil a los requerimientos de las escuelas para la implementación de sus bibliotecas de aul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tilizar los medios de comunicación para promocionar la lectura en la sociedad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una biblioteca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itinera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ara que las familias accedan a la lectura como una experiencia grata y enriquecedora.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concursos municipales que promuevan la promoción de la lectur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r la visita de las familias a las bibliotecas existentes en la comunidad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 involucrar a las asociaciones civiles, ONG vinculadas con el fomento a la lectura para que visiten los hogares, sobre todo aquellos que están en 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rograma Juntos.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703C49-7150-4F36-917B-0748038AE0A8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niños por la lectura  a través de la práctica frecuente de las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cuentacuent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libre por placer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canticuentos o cuentos cantados 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alizar concursos de actividades innovadoras para promover la lectura recreativa entre las Instituciones Educativ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1D9-0D57-46BE-B45C-224E562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FB6-A0BD-466B-B7DE-470976A4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A5A-D2FC-445D-820C-6457C002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A95-77F7-471C-82F1-04D609C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B55-9136-414C-B492-ED00BFCD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0225-8482-40FB-AED5-82D234A7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930-4B82-4592-A8A4-9AC90FA1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934D-FDFA-411A-9368-08DF21DC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EAF0-E475-4A5C-A654-BDE7407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5AF4-17F3-4DB5-B7C4-DA757D5A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EB6E-1043-4265-9F94-93888D1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F60-2A62-4710-A420-0A8CC98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87F4-E6BB-4AA3-8E3D-AEAADDE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B08F-CDBB-4764-8080-DCD3FC0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5EE-81A5-4857-B293-1F4F4C1B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E235-FAC5-4022-BE13-F00A4E4C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2F8F-9F48-4F23-82C2-1BA7ED78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01A-0931-42D2-89DC-616281ED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10E-DD0E-4B0D-BC0C-1654329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758-5E97-4A43-B01F-AC15B96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EF6-2FE8-44BD-B01C-AE921945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3F7-AA60-43C3-A982-0767E72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737-96DA-4540-8D61-56D1B99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0B2-3BF1-4283-B8A6-AA47E0F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D5D5-9745-454A-BC9B-53A39547EB90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A3B-92C6-4610-BD16-B037C815662F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                      </a:t>
            </a: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Leer para sentir</a:t>
            </a:r>
            <a:br>
              <a:rPr sz="2000"/>
            </a:b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                     </a:t>
            </a:r>
            <a:r>
              <a:rPr b="0" lang="es-PE" sz="4200" spc="-1" strike="noStrike">
                <a:solidFill>
                  <a:srgbClr val="ffffff"/>
                </a:solidFill>
                <a:latin typeface="Palatino Linotype"/>
              </a:rPr>
              <a:t>Plan Lector</a:t>
            </a:r>
            <a:r>
              <a:rPr b="0" lang="es-PE" sz="4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Leer para apren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1912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05120" y="57150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5800" y="1752480"/>
            <a:ext cx="1066680" cy="5185800"/>
          </a:xfrm>
          <a:prstGeom prst="rect">
            <a:avLst/>
          </a:prstGeom>
          <a:solidFill>
            <a:srgbClr val="95c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405160" y="6181560"/>
            <a:ext cx="60958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Palatino Linotype"/>
              </a:rPr>
              <a:t>Dirección de Educación Primaria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358128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7861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34815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34815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36860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34815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grpSp>
        <p:nvGrpSpPr>
          <p:cNvPr id="135" name="Group 30"/>
          <p:cNvGrpSpPr/>
          <p:nvPr/>
        </p:nvGrpSpPr>
        <p:grpSpPr>
          <a:xfrm>
            <a:off x="1981080" y="1905120"/>
            <a:ext cx="6934320" cy="3919320"/>
            <a:chOff x="1981080" y="1905120"/>
            <a:chExt cx="6934320" cy="3919320"/>
          </a:xfrm>
        </p:grpSpPr>
        <p:pic>
          <p:nvPicPr>
            <p:cNvPr id="136" name="Picture 18" descr=""/>
            <p:cNvPicPr/>
            <p:nvPr/>
          </p:nvPicPr>
          <p:blipFill>
            <a:blip r:embed="rId1"/>
            <a:stretch/>
          </p:blipFill>
          <p:spPr>
            <a:xfrm>
              <a:off x="1981080" y="1905120"/>
              <a:ext cx="1981440" cy="21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0" descr=""/>
            <p:cNvPicPr/>
            <p:nvPr/>
          </p:nvPicPr>
          <p:blipFill>
            <a:blip r:embed="rId2"/>
            <a:stretch/>
          </p:blipFill>
          <p:spPr>
            <a:xfrm>
              <a:off x="6781680" y="3962520"/>
              <a:ext cx="21337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8" descr="2 boys reading.jpg (51398 bytes)"/>
            <p:cNvPicPr/>
            <p:nvPr/>
          </p:nvPicPr>
          <p:blipFill>
            <a:blip r:embed="rId3"/>
            <a:stretch/>
          </p:blipFill>
          <p:spPr>
            <a:xfrm>
              <a:off x="4267080" y="2971800"/>
              <a:ext cx="2362320" cy="168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rategia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Fortalecer las capacidades comunicativas relacionadas con la 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828800" y="1905120"/>
            <a:ext cx="6934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comprensión de textos a través de la práctica frecuente de las  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y aprendem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notici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ción de un sistema de autoevaluación del desarrollo de la comprensión lectora en las Instituciones Educativas.</a:t>
            </a:r>
            <a:r>
              <a:rPr b="0" lang="es-ES" sz="22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Nota: </a:t>
            </a:r>
            <a:r>
              <a:rPr b="1" i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abe recordar que en esta primera etapa de implementación del Plan Lector de Educación Primaria, se trabajará sólo el primer propósito: Desarrollar hábitos lectores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81080" y="1981080"/>
            <a:ext cx="693432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Condiciones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ásicas para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desarrollar hábi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195" name="Picture 8" descr="Wilson Sharon - The Reading"/>
          <p:cNvPicPr/>
          <p:nvPr/>
        </p:nvPicPr>
        <p:blipFill>
          <a:blip r:embed="rId1"/>
          <a:stretch/>
        </p:blipFill>
        <p:spPr>
          <a:xfrm>
            <a:off x="0" y="5452920"/>
            <a:ext cx="1828800" cy="14050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981080" y="1676520"/>
            <a:ext cx="693432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, a su mund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imaginario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ser amenos, despertar la curiosidad, la inventiva y la imaginación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ra el III ciclo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981080" y="1676520"/>
            <a:ext cx="693432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981080" y="1676520"/>
            <a:ext cx="693432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uerdos para el momento de la lectura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piciar y mantener un clima de comodidad, tranquilidad y disfrute. Para lograr esto se sugiere el uso de algunos instrumentos musicales de la región, variaciones en la iluminación, utilización de diversos aromas, entre otros que predispongan favorablemente a los estudiantes hacia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r el sistema de préstamo frecuente de libros a domicili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11" name="Picture 8" descr="Reading is Fundamental"/>
          <p:cNvPicPr/>
          <p:nvPr/>
        </p:nvPicPr>
        <p:blipFill>
          <a:blip r:embed="rId1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981080" y="2193840"/>
            <a:ext cx="693432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blecer la frecuencia de lectura semanal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y el moment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 lectura que se tendrá en el aula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Que los niños y las niñas elijan con libertad el texto de su interés, para que incorporen la lectura como una actividad cotidiana con propósitos autónom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1981080" y="1843200"/>
            <a:ext cx="69343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 Actividades de animación a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1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para la animación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utilizarse un libro completo, no un fragment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presentarse el libro: título, autor, ilustrador, traductor, editorial... adaptando la información a la edad del niñ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s animaciones necesitan desarrollarse en forma continua y varia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ser voluntaria: el niño debe querer participar. Nunca debe convertirse en una actividad más de clase, es algo distinto que tiene que ver más con la diversión y el juego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971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29" name="Picture 7" descr="http://rds.yahoo.com/S=96062883/K=lectura/v=2/SID=e/l=IVS/SIG=13b5m961v/EXP=1106326658/*-http%3A//www.hogardelarte.com/CarpetaDibujos/CarpetaExcan/DibuEscan1/Damas-11/Lectura.jpg"/>
          <p:cNvPicPr/>
          <p:nvPr/>
        </p:nvPicPr>
        <p:blipFill>
          <a:blip r:embed="rId1"/>
          <a:stretch/>
        </p:blipFill>
        <p:spPr>
          <a:xfrm>
            <a:off x="0" y="54990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1981080" y="1843200"/>
            <a:ext cx="693432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promover la participación: el niño debe ser protagonista. El  animador promoverá que todos intervengan, teniendo especial cuidado en la participación de los niños más retraíd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no es competitiva: no se trata de ganar o perder, no hay notas ni calificaciones. El animador alabará los aciertos, pero quitará importancia a las equivocaciones. Procurará invitar a los niños a ayudar a los compañeros que no sepa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ueden realizar en cualquier lugar: biblioteca pública o escolar, aula, hogar..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981080" y="1676520"/>
            <a:ext cx="693432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2. Estrategias para la animación lectora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libre por placer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 principio se trata de poner a los niños en contacto con diferentes tipos de textos, par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que ellos los exploren, hojeen, pregunten, pidan que les lean, se detengan en las ilustraciones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cuentacuentos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selecciona una lectura y se prepara para leerla a los niños. Después,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le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pone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a expresarse 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través de diversos lenguajes, utilizando máscaras, títeres, dibujos o cambiando el final de la histori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os canticuentos o cuentos cantados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trata de trabajar con canciones que tienen una historia o se relata un cuento. Se anima con una melodí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Nota: ver Anexo 1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981080" y="1752480"/>
            <a:ext cx="6934320" cy="63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3. Actividades adicional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alizar dramatizaciones o escenas teatrales sobre lo leído; así como dibujos, modelados u otras representaciones motivadoras e interesantes para los niñ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otivar conversatorios abiertos, veladas literarias, exposiciones sobre lo leí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nvitar a los autores, dibujantes, diagramadores y editores de libros para que cuenten sus experiencias como t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1"/>
          <a:stretch/>
        </p:blipFill>
        <p:spPr>
          <a:xfrm>
            <a:off x="0" y="5130720"/>
            <a:ext cx="1752480" cy="1727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Qué es el Plan Lector de Educación Primaria?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141" name="Picture 4" descr="2 boys reading.jpg (51398 bytes)"/>
          <p:cNvPicPr/>
          <p:nvPr/>
        </p:nvPicPr>
        <p:blipFill>
          <a:blip r:embed="rId1"/>
          <a:stretch/>
        </p:blipFill>
        <p:spPr>
          <a:xfrm>
            <a:off x="0" y="5511960"/>
            <a:ext cx="1752480" cy="1346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38400" y="1905120"/>
            <a:ext cx="670068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rmas para la organización y aplicación del Plan Lector en las Instituciones Educativas de Educación Básica Reg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, aprobadas por RM N° 0386-2006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Desde EP s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fine como un conjunto de estrategias para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omentar, incitar y promover en los niños y niñas el apego a los libro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gusto por la lectura, a partir de situaciones creativas, lúdicas y placenteras, que despierten el interés, la inventiva y la sensibilidad; así como actitudes positivas en relación con la lectura como herramienta para el desarrollo de capacidades para la vi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175248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48640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d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752480" y="2057400"/>
            <a:ext cx="3505320" cy="4623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ener los libros al alcance de los niños, ordenados con los lomos o la portada a la vista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os espacios destinados a la lectura ofrecen comodidad, tranquilidad, limpieza, con cojines, mantas, petates..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Utilizar textos completos para animar a la lectura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arle el tiempo y el espacio necesarios a la animación a la lectura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gerir una actividad previa y posterior para animar a la lectura y re-crear lo leí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410080" y="2057400"/>
            <a:ext cx="3505320" cy="43689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ener los libros encajonados, en un cuarto cerrado o fuera del alcance de los niños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spacios destinados a la lectura no brindan comodidad, tranquilidad; están sucios, desordenados, son ruidosos y sin ventilación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r fragmentos de obras o fotocopias de libros o copias descoloridas para realizar las animacione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r la animación en una clase más, con tareas finales o actividades de evaluación calificada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9526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8671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75248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8640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d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52480" y="1981080"/>
            <a:ext cx="3505320" cy="42850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animación se convierte en una oportunidad para el sosiego, el despliegue de la imaginación y la fantasía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ugerir, animar y contagiar a los niños a participar en la animación. La animación debe ser voluntaria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egir los libros en función de los intereses y el gusto del niño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arle la oportunidad a los niños para que dejen de leer un libro que no despierta su interés o no logra atraparlos y  que busquen otro texto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Marig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410080" y="1981080"/>
            <a:ext cx="3505320" cy="473940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r a los niños a que realicen un trabajo o actividad sobre el libro leí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e la animación se convierta en agitación, tensión y disconformidad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r a los niños a participar en la animación.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egir los libros en función sólo de nuestros gustos o desde el punto de vista estético, literario o moralizante.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r al niño o niña a que termine de leer todo el libro, pese a que ya no despierta su interés o no se siente motivado a continuar la lectura.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9526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56" name="Picture 7" descr="reading.jpg"/>
          <p:cNvPicPr/>
          <p:nvPr/>
        </p:nvPicPr>
        <p:blipFill>
          <a:blip r:embed="rId3"/>
          <a:stretch/>
        </p:blipFill>
        <p:spPr>
          <a:xfrm>
            <a:off x="0" y="5348160"/>
            <a:ext cx="1752480" cy="15098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qué u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lan Lector 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ducación Primaria?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6" name="Text Box 1029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7" name="Text Box 1030"/>
          <p:cNvSpPr/>
          <p:nvPr/>
        </p:nvSpPr>
        <p:spPr>
          <a:xfrm>
            <a:off x="2138400" y="1905120"/>
            <a:ext cx="670068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nuestro país no se ha desarrollado una sólida cultura lectora desde la familia, la escuela y la comunidad. Además, las pruebas Nacionales e Internacionales han demostrado los bajos niveles de comprensión de nuestros estudiantes. Esta situación ha llevado al Ministerio de Educación del Perú, en su rol normativo y orientador, a  implementar un conjunto de estrategias dirigidas a movilizar a la sociedad con el fin de revertir dicha situació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8" name="Rectangle 1032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qué u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lan Lector 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ducación Primaria?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38400" y="1905120"/>
            <a:ext cx="670068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logro de las capacidades comunicativas relacionadas con la comprensión de textos, supone el desarrollo previo de hábitos lectores. Para lograrlo es importante brindar situaciones de lectura recreativa y placentera desde los primeros años de edad que permitan a los niños acercarse voluntariamente a los libros. Esto los dispondrá afectivamente  hacia la lectura convirtiéndolos en lectores habitu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r un lector habitual quiere decir haber incorporado la lectura a la vida cotidiana , esto favorecerá la adquisición, el desarrollo y la consolidación de las capacidades comunicativas para la comprensión de diversos tipos de textos, que permitirán a los niños y niñas aprender con autonomía durante toda su vi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Plan Lector en EP tiene 2 propósitos fundamentales: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28800" y="1905120"/>
            <a:ext cx="70102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º Desarrollar hábitos lectores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prioriz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 acercamiento libre a los textos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os intereses de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El uso de estrategias variadas de animación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 re-creación lúdica, plástica de lo leído sin imposiciones, evaluaciones calificad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El acompañamiento estratégico de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 verificación formativa para reajustar las estrategi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0" y="4267080"/>
          <a:ext cx="19051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7080"/>
                    <a:ext cx="19051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Plan Lector en EP tiene 2 propósitos fundamentales: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828800" y="1905120"/>
            <a:ext cx="701028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º Desarrollar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s capacidades para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prioriza, de manera alterna y complementari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s capacidades comunicativas relacionadas con la comprensió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de estudio, ligada directamente a las áreas curriculares, a la programación y la evaluación con sus respectivos indicadores y niveles de logr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Nota: </a:t>
            </a:r>
            <a:r>
              <a:rPr b="1" i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abe señalar que en esta primera etapa de implementación del Plan Lector de Educación Primaria, se trabajará sólo el primer propósito: Desarrollar hábitos lectores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412416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Arial"/>
              </a:rPr>
              <a:t>¿Qué haremo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138400" y="1905120"/>
            <a:ext cx="67006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lantean 3 estrategias para lograr los 2 propósito fundamentales del Plan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nsibilización y movilización social por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ción d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la lectura recreativa y de disfrute en la escuel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ortalecer el desarrollo de capacidades comunicativas relacionadas a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54348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strategia 1: Sensibilizaci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n y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movilizaci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n social por la lec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81080" y="1547640"/>
            <a:ext cx="69343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Mediante las siguiente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ctivida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una Campaña Nacional de recolección de libros que permita una respuesta masiva de la sociedad civil a los requerimientos de las escuelas para la implementación de sus bibliotecas de aul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tilizar los medios de comunicación para promocionar la lectura en la sociedad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una biblioteca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itinera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ara que las familias accedan a la lectura como una experiencia grata y enriquecedora.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concursos municipales que promuevan la promoción de la lectur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r la visita de las familias a las bibliotecas existentes en la comunidad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 involucrar a las asociaciones civiles, ONG vinculadas con el fomento a la lectura para que visiten a las familias que no pueden acudir a la bibliotec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765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179" name="Picture 9" descr="http://rds.yahoo.com/S=96062883/K=lectura/v=2/SID=e/l=IVS/SIG=12nf14ffp/EXP=1106326077/*-http%3A//www.jornada.unam.mx/2002/abr02/020428/Images/mas-lectura.jpg"/>
          <p:cNvPicPr/>
          <p:nvPr/>
        </p:nvPicPr>
        <p:blipFill>
          <a:blip r:embed="rId1"/>
          <a:stretch/>
        </p:blipFill>
        <p:spPr>
          <a:xfrm>
            <a:off x="0" y="55627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</a:t>
            </a:r>
            <a:r>
              <a:rPr b="1" lang="es-PE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PE" sz="30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0"/>
            <a:ext cx="167652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828800" y="2117880"/>
            <a:ext cx="6934320" cy="45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niños por la lectura  a través de la práctica frecuente de las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cuentacuent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libre por placer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canticuentos o cuentos cantados 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alizar concursos de actividades innovadoras para promover la lectura recreativa entre las Instituciones Educativ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22:34:14Z</dcterms:created>
  <dc:creator>HBECERRA</dc:creator>
  <dc:description/>
  <dc:language>en-US</dc:language>
  <cp:lastModifiedBy>WinuE</cp:lastModifiedBy>
  <dcterms:modified xsi:type="dcterms:W3CDTF">2009-10-08T17:00:34Z</dcterms:modified>
  <cp:revision>63</cp:revision>
  <dc:subject/>
  <dc:title>Plan Lector </dc:title>
</cp:coreProperties>
</file>