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8D1E-4D1C-4001-AC12-AF856C405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F383-ACA2-49CD-863A-D67268EEC0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20CE-D5D0-43B7-A19A-9B0C4EEB71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1A4-C0B4-4524-A091-577F2999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F43-2342-4E65-92A7-C901262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DEA-1D2C-410C-993F-CFAA0E98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60B-4B93-417D-8261-45C265AE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18DD-87BC-4ECF-BAF7-9326B2FE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FAAB-19DC-439C-919A-A7CA54AB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2328-7D41-4AD0-91A1-E7993BF5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11B9-88E2-4C46-86C6-467B2BCE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C965-0C18-4F92-BCC4-C0179ACB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E4E3-0E2D-4EED-A045-F0593742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44C1-C467-4F47-AF05-D3FBD55D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706-D8BB-4E92-9EAA-5276E232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B553-879F-4C62-A624-4B3742B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0A47-5F6A-4D71-80DA-0F6BF0B0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DA7C-2189-41AE-A09E-19E7887F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FFCD-4C99-44D4-998B-C5DB2A4F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24E5-D4D8-4B82-9EA6-7A7EBA40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9DA-567F-4509-9372-CE3FC5A1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A67-1976-46C6-AB91-A063B018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D2C-2E81-4394-8B6A-45951511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827-6F9C-4DF1-AA4A-116F6882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150-BB45-4F4F-8BE3-1D59F119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967-F3CC-46AF-BD58-0472289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579-8A59-4E63-B313-597A4BD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2FA4-C928-41BD-B8D8-C56ABBFAB50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37D2-A9E3-4058-A637-0CD2BF014EA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5345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ttp://www.cockatoo.com/indonesia/jakartastreetatlas/map_image/kalimantan.gif"/>
          <p:cNvPicPr/>
          <p:nvPr/>
        </p:nvPicPr>
        <p:blipFill>
          <a:blip r:embed="rId2"/>
          <a:stretch/>
        </p:blipFill>
        <p:spPr>
          <a:xfrm>
            <a:off x="1219320" y="1143000"/>
            <a:ext cx="6553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http://upload.wikimedia.org/wikipedia/id/thumb/3/3c/Peta_Sulawesi.jpg/250px-Peta_Sulawesi.jpg"/>
          <p:cNvPicPr/>
          <p:nvPr/>
        </p:nvPicPr>
        <p:blipFill>
          <a:blip r:embed="rId2"/>
          <a:stretch/>
        </p:blipFill>
        <p:spPr>
          <a:xfrm>
            <a:off x="1828800" y="1219320"/>
            <a:ext cx="556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666880" y="1600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Malik al-sal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4382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Malik Al zah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66880" y="3276720"/>
            <a:ext cx="37339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Malik Al mahm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666880" y="41148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Malik Al Mans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666880" y="5029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Ahmad Perum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Down Arrow 13"/>
          <p:cNvSpPr/>
          <p:nvPr/>
        </p:nvSpPr>
        <p:spPr>
          <a:xfrm>
            <a:off x="4267080" y="21337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Down Arrow 14"/>
          <p:cNvSpPr/>
          <p:nvPr/>
        </p:nvSpPr>
        <p:spPr>
          <a:xfrm>
            <a:off x="4267080" y="297180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Down Arrow 15"/>
          <p:cNvSpPr/>
          <p:nvPr/>
        </p:nvSpPr>
        <p:spPr>
          <a:xfrm>
            <a:off x="4267080" y="380988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Down Arrow 16"/>
          <p:cNvSpPr/>
          <p:nvPr/>
        </p:nvSpPr>
        <p:spPr>
          <a:xfrm>
            <a:off x="4343400" y="472428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http://krisosa.files.wordpress.com/2007/09/sumatera.jpg"/>
          <p:cNvPicPr/>
          <p:nvPr/>
        </p:nvPicPr>
        <p:blipFill>
          <a:blip r:embed="rId2"/>
          <a:stretch/>
        </p:blipFill>
        <p:spPr>
          <a:xfrm>
            <a:off x="1143000" y="1143000"/>
            <a:ext cx="66294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666880" y="1600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Ali Mughayat Sy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666880" y="24382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Salahud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666880" y="3276720"/>
            <a:ext cx="37339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Alauddin Riayat Sy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666880" y="41148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Iskandar Mu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666880" y="5029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 Iskandar Tha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Down Arrow 13"/>
          <p:cNvSpPr/>
          <p:nvPr/>
        </p:nvSpPr>
        <p:spPr>
          <a:xfrm>
            <a:off x="4267080" y="21337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Down Arrow 14"/>
          <p:cNvSpPr/>
          <p:nvPr/>
        </p:nvSpPr>
        <p:spPr>
          <a:xfrm>
            <a:off x="4267080" y="297180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Down Arrow 15"/>
          <p:cNvSpPr/>
          <p:nvPr/>
        </p:nvSpPr>
        <p:spPr>
          <a:xfrm>
            <a:off x="4267080" y="380988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Down Arrow 16"/>
          <p:cNvSpPr/>
          <p:nvPr/>
        </p:nvSpPr>
        <p:spPr>
          <a:xfrm>
            <a:off x="4343400" y="472428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029200" y="1600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aden Pat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029200" y="24382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dipati U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952880" y="3276720"/>
            <a:ext cx="37339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Trenggo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80880" y="41148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angeran Sekar Sedo Le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952880" y="41148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nan Praw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Down Arrow 13"/>
          <p:cNvSpPr/>
          <p:nvPr/>
        </p:nvSpPr>
        <p:spPr>
          <a:xfrm>
            <a:off x="6629400" y="21337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Down Arrow 14"/>
          <p:cNvSpPr/>
          <p:nvPr/>
        </p:nvSpPr>
        <p:spPr>
          <a:xfrm>
            <a:off x="6629400" y="297180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Down Arrow 15"/>
          <p:cNvSpPr/>
          <p:nvPr/>
        </p:nvSpPr>
        <p:spPr>
          <a:xfrm>
            <a:off x="6629400" y="380988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Down Arrow 16"/>
          <p:cNvSpPr/>
          <p:nvPr/>
        </p:nvSpPr>
        <p:spPr>
          <a:xfrm>
            <a:off x="6629400" y="46483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952880" y="49528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rya Pangi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380880" y="49528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rya Penangs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2743200" y="59436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aka Tingk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Down Arrow 19"/>
          <p:cNvSpPr/>
          <p:nvPr/>
        </p:nvSpPr>
        <p:spPr>
          <a:xfrm>
            <a:off x="4343400" y="55627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Down Arrow 20"/>
          <p:cNvSpPr/>
          <p:nvPr/>
        </p:nvSpPr>
        <p:spPr>
          <a:xfrm>
            <a:off x="2057400" y="46483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http://www.litbang.deptan.go.id/berkas/Pergeseran_musim_kem2.jpg"/>
          <p:cNvPicPr/>
          <p:nvPr/>
        </p:nvPicPr>
        <p:blipFill>
          <a:blip r:embed="rId2"/>
          <a:stretch/>
        </p:blipFill>
        <p:spPr>
          <a:xfrm>
            <a:off x="457200" y="1409760"/>
            <a:ext cx="8229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666880" y="1600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aka  Tingk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666880" y="24382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angeran Benaw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666880" y="3276720"/>
            <a:ext cx="37339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tawij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Down Arrow 13"/>
          <p:cNvSpPr/>
          <p:nvPr/>
        </p:nvSpPr>
        <p:spPr>
          <a:xfrm>
            <a:off x="4267080" y="21337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Down Arrow 14"/>
          <p:cNvSpPr/>
          <p:nvPr/>
        </p:nvSpPr>
        <p:spPr>
          <a:xfrm>
            <a:off x="4267080" y="297180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666880" y="1600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tawij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666880" y="24382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s Jol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666880" y="3276720"/>
            <a:ext cx="37339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Ag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666880" y="41148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mangkurat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666880" y="5029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mangkurat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Down Arrow 13"/>
          <p:cNvSpPr/>
          <p:nvPr/>
        </p:nvSpPr>
        <p:spPr>
          <a:xfrm>
            <a:off x="4267080" y="21337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Down Arrow 14"/>
          <p:cNvSpPr/>
          <p:nvPr/>
        </p:nvSpPr>
        <p:spPr>
          <a:xfrm>
            <a:off x="4267080" y="297180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Down Arrow 15"/>
          <p:cNvSpPr/>
          <p:nvPr/>
        </p:nvSpPr>
        <p:spPr>
          <a:xfrm>
            <a:off x="4267080" y="380988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Down Arrow 16"/>
          <p:cNvSpPr/>
          <p:nvPr/>
        </p:nvSpPr>
        <p:spPr>
          <a:xfrm>
            <a:off x="4343400" y="472428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666880" y="1600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Hasanudd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666880" y="24382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anembahan Yus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666880" y="3276720"/>
            <a:ext cx="37339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ulana Muhamm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666880" y="41148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bu’Mufak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666880" y="5029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ageng Tirtay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Down Arrow 13"/>
          <p:cNvSpPr/>
          <p:nvPr/>
        </p:nvSpPr>
        <p:spPr>
          <a:xfrm>
            <a:off x="4267080" y="21337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Down Arrow 14"/>
          <p:cNvSpPr/>
          <p:nvPr/>
        </p:nvSpPr>
        <p:spPr>
          <a:xfrm>
            <a:off x="4267080" y="297180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Down Arrow 15"/>
          <p:cNvSpPr/>
          <p:nvPr/>
        </p:nvSpPr>
        <p:spPr>
          <a:xfrm>
            <a:off x="4267080" y="380988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Down Arrow 16"/>
          <p:cNvSpPr/>
          <p:nvPr/>
        </p:nvSpPr>
        <p:spPr>
          <a:xfrm>
            <a:off x="4343400" y="472428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stayn.files.wordpress.com/2008/01/peta_arab.jpg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666880" y="1600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Alaud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666880" y="24382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Hasanudd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666880" y="3276720"/>
            <a:ext cx="37339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pasom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Down Arrow 13"/>
          <p:cNvSpPr/>
          <p:nvPr/>
        </p:nvSpPr>
        <p:spPr>
          <a:xfrm>
            <a:off x="4267080" y="21337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Down Arrow 14"/>
          <p:cNvSpPr/>
          <p:nvPr/>
        </p:nvSpPr>
        <p:spPr>
          <a:xfrm>
            <a:off x="4267080" y="297180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http://upload.wikimedia.org/wikipedia/id/thumb/3/3c/Peta_Sulawesi.jpg/250px-Peta_Sulawesi.jpg"/>
          <p:cNvPicPr/>
          <p:nvPr/>
        </p:nvPicPr>
        <p:blipFill>
          <a:blip r:embed="rId2"/>
          <a:stretch/>
        </p:blipFill>
        <p:spPr>
          <a:xfrm>
            <a:off x="1828800" y="1219320"/>
            <a:ext cx="556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971640" indent="-399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666880" y="160020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Zaenal Abid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666880" y="2438280"/>
            <a:ext cx="3733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ltan Khair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666880" y="3276720"/>
            <a:ext cx="37339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aabull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Down Arrow 13"/>
          <p:cNvSpPr/>
          <p:nvPr/>
        </p:nvSpPr>
        <p:spPr>
          <a:xfrm>
            <a:off x="4267080" y="21337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Down Arrow 14"/>
          <p:cNvSpPr/>
          <p:nvPr/>
        </p:nvSpPr>
        <p:spPr>
          <a:xfrm>
            <a:off x="4267080" y="297180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878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28600" y="914400"/>
            <a:ext cx="861048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886200" y="1066680"/>
            <a:ext cx="25909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erkembangan Islam di Indone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600200" y="2362320"/>
            <a:ext cx="152388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wal masuknya Isl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477120" y="2362320"/>
            <a:ext cx="167616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Perkembangan penyebaran Isl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3733920"/>
            <a:ext cx="1066680" cy="6858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Teori masuknya Isl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371600" y="3733920"/>
            <a:ext cx="914400" cy="6094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Bukti-bukti aw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362320" y="3733920"/>
            <a:ext cx="1143000" cy="838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Proses penyebaran Isl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81280" y="3733920"/>
            <a:ext cx="9907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Penyebar Isl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648320" y="3733920"/>
            <a:ext cx="121896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umatera, Jawa, Kalimantan &amp; Sulawe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5943600" y="3733920"/>
            <a:ext cx="1523880" cy="838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Pertumbuhan kota, jaringan ekonomi dan intelek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7543800" y="3733920"/>
            <a:ext cx="1295280" cy="838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Pendidik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Kese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Kesusatra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4343400" y="5257800"/>
            <a:ext cx="190512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Kerajaan –kerajaan Isl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800600" y="2438280"/>
            <a:ext cx="83808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Pro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18"/>
          <p:cNvSpPr/>
          <p:nvPr/>
        </p:nvSpPr>
        <p:spPr>
          <a:xfrm>
            <a:off x="5181480" y="1600200"/>
            <a:ext cx="38160" cy="8380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27"/>
          <p:cNvSpPr/>
          <p:nvPr/>
        </p:nvSpPr>
        <p:spPr>
          <a:xfrm flipH="1">
            <a:off x="5179680" y="2820960"/>
            <a:ext cx="3240" cy="8380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31"/>
          <p:cNvSpPr/>
          <p:nvPr/>
        </p:nvSpPr>
        <p:spPr>
          <a:xfrm>
            <a:off x="5257800" y="4648320"/>
            <a:ext cx="38160" cy="6094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35"/>
          <p:cNvSpPr/>
          <p:nvPr/>
        </p:nvSpPr>
        <p:spPr>
          <a:xfrm>
            <a:off x="2362320" y="1905120"/>
            <a:ext cx="495288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37"/>
          <p:cNvSpPr/>
          <p:nvPr/>
        </p:nvSpPr>
        <p:spPr>
          <a:xfrm flipH="1">
            <a:off x="7313760" y="1906560"/>
            <a:ext cx="2880" cy="457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39"/>
          <p:cNvSpPr/>
          <p:nvPr/>
        </p:nvSpPr>
        <p:spPr>
          <a:xfrm flipH="1">
            <a:off x="2360160" y="1906560"/>
            <a:ext cx="3240" cy="457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41"/>
          <p:cNvSpPr/>
          <p:nvPr/>
        </p:nvSpPr>
        <p:spPr>
          <a:xfrm flipV="1">
            <a:off x="3124080" y="2590920"/>
            <a:ext cx="1676520" cy="3816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43"/>
          <p:cNvSpPr/>
          <p:nvPr/>
        </p:nvSpPr>
        <p:spPr>
          <a:xfrm>
            <a:off x="5638680" y="2590920"/>
            <a:ext cx="838440" cy="3816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traight Connector 46"/>
          <p:cNvSpPr/>
          <p:nvPr/>
        </p:nvSpPr>
        <p:spPr>
          <a:xfrm>
            <a:off x="762120" y="3276720"/>
            <a:ext cx="335268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traight Connector 48"/>
          <p:cNvSpPr/>
          <p:nvPr/>
        </p:nvSpPr>
        <p:spPr>
          <a:xfrm flipH="1">
            <a:off x="4076640" y="3276720"/>
            <a:ext cx="38160" cy="457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traight Connector 50"/>
          <p:cNvSpPr/>
          <p:nvPr/>
        </p:nvSpPr>
        <p:spPr>
          <a:xfrm flipH="1">
            <a:off x="759960" y="3278160"/>
            <a:ext cx="3240" cy="457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traight Connector 52"/>
          <p:cNvSpPr/>
          <p:nvPr/>
        </p:nvSpPr>
        <p:spPr>
          <a:xfrm flipH="1">
            <a:off x="1827360" y="3278160"/>
            <a:ext cx="2880" cy="457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traight Connector 54"/>
          <p:cNvSpPr/>
          <p:nvPr/>
        </p:nvSpPr>
        <p:spPr>
          <a:xfrm flipH="1">
            <a:off x="2933640" y="3276720"/>
            <a:ext cx="38160" cy="457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traight Connector 56"/>
          <p:cNvSpPr/>
          <p:nvPr/>
        </p:nvSpPr>
        <p:spPr>
          <a:xfrm flipH="1">
            <a:off x="2360160" y="2897280"/>
            <a:ext cx="3240" cy="3808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58"/>
          <p:cNvSpPr/>
          <p:nvPr/>
        </p:nvSpPr>
        <p:spPr>
          <a:xfrm>
            <a:off x="6705720" y="3352680"/>
            <a:ext cx="152388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60"/>
          <p:cNvSpPr/>
          <p:nvPr/>
        </p:nvSpPr>
        <p:spPr>
          <a:xfrm flipH="1">
            <a:off x="7313760" y="2897280"/>
            <a:ext cx="2880" cy="457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62"/>
          <p:cNvSpPr/>
          <p:nvPr/>
        </p:nvSpPr>
        <p:spPr>
          <a:xfrm flipH="1">
            <a:off x="6703560" y="3354480"/>
            <a:ext cx="3240" cy="3808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traight Connector 65"/>
          <p:cNvSpPr/>
          <p:nvPr/>
        </p:nvSpPr>
        <p:spPr>
          <a:xfrm flipH="1">
            <a:off x="8191440" y="3352680"/>
            <a:ext cx="38160" cy="3812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ori masuknya Islam di Indones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oesein Djajadiningr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lam masuk ke Nusantara melalui Iran (Persi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oetjipto Wirjosoepart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lam masuk ke Nusantara melalui Gujarat (Indi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nouck Hurgronje dan Moquette dari Beland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lam masuk ke Nusantara melalui Gujarat (Indi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aji Abdul Malik Karim Amrullah (HAMK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lam masuk ke Nusantara melalui Mesir dan Mekka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Alwi Sihab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lam pertama kali masuk ke Nusantara abad ke-7 M oleh pedagang sufi-Muslim Arab yang memasuki Cina lewat jalur-jalur bagian Bar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72440" cy="1255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3056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Berita Cina dari Dinasti Tang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Adanya serangan orang-orang Arab dan Persia terhadap kerajaan Kalingg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Berita Arab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Pedagang arab telah mengadakan perdagangan dengan Sriwijay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Ditemukannya batu tulis dalam bahasa Arab di Leran, Gresik (Fatimah Binti Maimun 1082 M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Berita dari Marcopolo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Di Aceh, menjumpai pedagang dari Gujarat (India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Makam Sultan Malik Al Saleh 1297 M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Berita dari Ibnu Batutah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Di Sumatera terdapat kerajaan Islam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Book Antiqu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Kompleks makam Islam Tralaya di Trowula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Book Antiqu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Berita dari Ma-hua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1416 telah ada pedagang Islam di Pantai Utara Pulau Jaw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Book Antiq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Book Antiqua"/>
              </a:rPr>
              <a:t>Makam Maulana Malik Ibrahim di Gresik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65920" indent="-430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Pedagang dari Arab, Mesir, Persia dan Gujar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Golongan Mubalig atau guru agama Isla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Golongan Sufi (ahli tasawuf) yang diperkirakan masuk ke Nusantara sejak abad ke-13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Para Wal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Sunan Maulana Malik Ibrahim (Sunan Gresik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Sunan Ampel (R Rahmat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Sunan Bonang (R Maulana Makdum Ibrahim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Sunan Drajat (Syarifuddin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Sunan Giri (R Paku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Sunan Kalijaga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Sunan Kudus (Ja’far Sodiq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Sunan Muria (Raden Umar Said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 Antiqua"/>
              </a:rPr>
              <a:t>Sunan Gunung Jat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8176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3640" indent="-45720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93640" indent="-457200" algn="just">
              <a:lnSpc>
                <a:spcPct val="9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Book Antiqua"/>
              </a:rPr>
              <a:t>Perdaganga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93640" indent="-457200" algn="just">
              <a:lnSpc>
                <a:spcPct val="9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Book Antiqua"/>
              </a:rPr>
              <a:t>Perkawina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93640" indent="-457200" algn="just">
              <a:lnSpc>
                <a:spcPct val="9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Book Antiqua"/>
              </a:rPr>
              <a:t>Pendidika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93640" indent="-457200" algn="just">
              <a:lnSpc>
                <a:spcPct val="9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Book Antiqua"/>
              </a:rPr>
              <a:t>Kesenia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93640" indent="-457200" algn="just">
              <a:lnSpc>
                <a:spcPct val="9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Book Antiqua"/>
              </a:rPr>
              <a:t>Ajaran Tasawuf  (Sufi) yang dihubungkan dengan perjalananan atau pengembaraa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93640" indent="-45720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9364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ttp://krisosa.files.wordpress.com/2007/09/sumatera.jpg"/>
          <p:cNvPicPr/>
          <p:nvPr/>
        </p:nvPicPr>
        <p:blipFill>
          <a:blip r:embed="rId2"/>
          <a:stretch/>
        </p:blipFill>
        <p:spPr>
          <a:xfrm>
            <a:off x="1143000" y="1143000"/>
            <a:ext cx="66294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6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http://www.litbang.deptan.go.id/berkas/Pergeseran_musim_kem2.jpg"/>
          <p:cNvPicPr/>
          <p:nvPr/>
        </p:nvPicPr>
        <p:blipFill>
          <a:blip r:embed="rId2"/>
          <a:stretch/>
        </p:blipFill>
        <p:spPr>
          <a:xfrm>
            <a:off x="457200" y="1409760"/>
            <a:ext cx="8229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08:34Z</dcterms:created>
  <dc:creator>galih</dc:creator>
  <dc:description/>
  <dc:language>en-US</dc:language>
  <cp:lastModifiedBy>Masyo</cp:lastModifiedBy>
  <dcterms:modified xsi:type="dcterms:W3CDTF">2009-10-08T08:03:36Z</dcterms:modified>
  <cp:revision>45</cp:revision>
  <dc:subject/>
  <dc:title>PERKEMBANGAN ISLAM DI INDONESIA</dc:title>
</cp:coreProperties>
</file>