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A64C-4BB5-4A2B-888A-3BA4AB018F1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7EFE-8A93-4AD6-8A7B-80E7F5BB4A1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fld id="{8EB9A685-C0E5-4F18-88C5-3B5688A8F36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fld id="{457AFA49-CC3A-4A82-BA8A-F408498C2E8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527E-5E9F-4F7B-B1F4-7288208C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13A-C403-407E-8178-2489153B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AAC-3738-4BEC-A845-5DF4C251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53B0-280F-4E9F-922B-2B82367C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9C89-7981-4206-9F4F-659A0450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D19E-48E1-4511-9DF8-5F80D05A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F630-E9F9-48A9-9D17-CDE393B6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1FAC-5FEB-452E-A670-1FF8F32A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6044-91D5-44B7-B343-1E8339B0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EAFC-A8CB-4EBA-BF29-0A465ED6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0D74-0595-4F75-AF0C-6E2A2F6B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880-1AF4-4331-96BE-2FAEB747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03A5-3C4C-4765-91FB-B5E9FA1A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1316-D5A4-4971-B35F-D98BE4B0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8E77-C0A3-4C3A-8C9D-61F79E8A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B4ED-4CA9-4276-A4E9-505B8A2E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BD99-6AF6-4E49-A0D2-BC3C507B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E28-4827-46F0-81BA-AC70CAC8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662C-EB43-48C8-83CB-2A93CF65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90C4-2419-464B-8CF9-312F0BD6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952-43A6-4554-B9E1-D28C7F51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4958-6BED-4AE9-856E-135A5DBD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3861-1D6F-46A4-B87B-5DFFA349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0AC-66FE-48BC-88E2-508A48A3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E070-64EA-44E6-AFC0-66C1483AD015}" type="datetime">
              <a:rPr b="0" lang="ar-SA" sz="1000" spc="-1" strike="noStrike">
                <a:solidFill>
                  <a:srgbClr val="ffffff"/>
                </a:solidFill>
                <a:latin typeface="Verdana"/>
              </a:rPr>
              <a:t>١٤٤٨/٠٢/١٦</a:t>
            </a:fld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 </a:t>
            </a:r>
            <a:fld id="{2783A768-25D8-4B4A-AC1E-BC9FCC85379D}" type="datetime10">
              <a:rPr b="0" lang="ar-SA" sz="1000" spc="-1" strike="noStrike">
                <a:solidFill>
                  <a:srgbClr val="ffffff"/>
                </a:solidFill>
                <a:latin typeface="Verdana"/>
              </a:rPr>
              <a:t>22:0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F0B4-087E-4264-9AA5-D5A9E7774F1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713E-6D80-46BE-9F0C-70AC7945116C}" type="datetime">
              <a:rPr b="0" lang="ar-SA" sz="1000" spc="-1" strike="noStrike">
                <a:solidFill>
                  <a:srgbClr val="ffffff"/>
                </a:solidFill>
                <a:latin typeface="Verdana"/>
              </a:rPr>
              <a:t>١٤٤٨/٠٢/١٦</a:t>
            </a:fld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 </a:t>
            </a:r>
            <a:fld id="{7DF2B9E8-496C-4840-8ED3-839EB0864785}" type="datetime10">
              <a:rPr b="0" lang="ar-SA" sz="1000" spc="-1" strike="noStrike">
                <a:solidFill>
                  <a:srgbClr val="ffffff"/>
                </a:solidFill>
                <a:latin typeface="Verdana"/>
              </a:rPr>
              <a:t>22:0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CCCD-5668-45BA-AC32-F474EF9F3FC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-110808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ff5050"/>
                </a:solidFill>
                <a:latin typeface="Arial"/>
              </a:rPr>
              <a:t>الحجاب الحاجز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9647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12880" indent="-812880" algn="r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ينفتح الصدر في الاسفل على البطن بفتحة عريضة حدودها : المفصل الرهابي القصي , والحافة الضلعية , وجسم  الفقرة الصدرية الثانية عشر . وهي مغلقة بحاجز عضلي وتري , هو الحجاب الحاجز, الذي يخترق من قبل البنى المارة بين الصدر والبطن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 algn="r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الحجاب الحاجز هو عضلة التنفس الرئيسية. وله شكل القبة , وتالف من جزء عضلي محيطي, ينشا من حواف الفتحة الصدرية , وآخر وري مركزي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 algn="r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يمكن تقسيم منشأ الحجاب الحاجز ال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ثلاثة اجزاء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 algn="r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2800" spc="-1" strike="noStrike" u="sng">
                <a:solidFill>
                  <a:srgbClr val="ff5050"/>
                </a:solidFill>
                <a:uFillTx/>
                <a:latin typeface="Verdana"/>
              </a:rPr>
              <a:t>جزء قصي :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يتآلف من شريطين ايمن وأيسر صغيرين وينشا من الوجه الخلفي للرهابة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 algn="r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2800" spc="-1" strike="noStrike" u="sng">
                <a:solidFill>
                  <a:srgbClr val="ff5050"/>
                </a:solidFill>
                <a:uFillTx/>
                <a:latin typeface="Verdana"/>
              </a:rPr>
              <a:t>جزء ضلعي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: يتألف من ستة اشرطة وتنشا من السطوح العميقة للاضلاع الستة السفلية وغضاريفها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 algn="r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2800" spc="-1" strike="noStrike" u="sng">
                <a:solidFill>
                  <a:srgbClr val="ff5050"/>
                </a:solidFill>
                <a:uFillTx/>
                <a:latin typeface="Verdana"/>
              </a:rPr>
              <a:t>جزء فقري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: ينشا من الاربطة المقوسة والعمودين الشاقوليين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D6D9-AFD4-4819-8CFB-853C8CA0BEA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763EEC1-784C-4192-8714-734D69256FCF}" type="datetime8">
              <a:rPr lang="en-US"/>
              <a:t>07/30/26 22:06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5183280" cy="446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5FC-70CF-4774-A79D-A5303E8BB38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6BEE4-A251-4EA4-94E6-EF85E7654C6D}" type="datetime8">
              <a:rPr lang="en-US"/>
              <a:t>07/30/26 22:06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6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غياب حجاب حاجز ايس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432108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E4F-1372-4CB6-8388-86DC284D83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A5568-124B-4AB8-BAE5-11190F3F4FDE}" type="datetime8">
              <a:rPr lang="en-US"/>
              <a:t>07/30/26 22:06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ffff99"/>
                </a:solidFill>
                <a:latin typeface="Arial"/>
              </a:rPr>
              <a:t>شكل الحجاب الحاجز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يبدو الحجاب الحاجز بالنظر اليه من الامام منحنيا للأعلى على شكل قبتين يمنى ويسرى .تصل القبة اليمنى الى الحافة العلوية للضلع الخامس , بينما القبة السرى تصل الى الحافة السفلية للضلع الخامس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يتوضع الوتر المركزي عند مستوى  المفصل الرهابي – القصي . يتغير مستوى الحجاب بتغير طور التنفس والوضعية  ودرجة تمدد الاحشاء البطنية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بالنظر اليه من الجانب , يبدو الحجاب الحاجز على شكل حرف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</a:t>
            </a: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الانكليزي بالمقلوب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3F1-6F22-4CBE-8817-34D5851932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80FED-2DC4-4D91-85DF-9EE956FDFB8E}" type="datetime8">
              <a:rPr lang="en-US"/>
              <a:t>07/30/26 22:06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ffff99"/>
                </a:solidFill>
                <a:latin typeface="Arial"/>
              </a:rPr>
              <a:t>فتحات احجاب الحاجز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 algn="r" rtl="1">
              <a:spcBef>
                <a:spcPts val="799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 للحجاب الحاجز ثلاث فتحات رئيسية هي 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48280" indent="-548280" algn="r" rtl="1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الفتحة الابهر ية : تقع امام جسم الفقرة الصدرية الثانية عشرة . تمرر الابهر والقناة الصدرية والوريد الفرد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48280" indent="-548280" algn="r" rtl="1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الفتحة المريئية : تقع عند مستوى الفقرة الصدرية العاشرة و في وشاح من الالياف العضلية تأتي من الساق اليمنى, وتمرر المريء , العصبان المبهمان الايمن والأيسر , الفروع المريئية للأوعية المعدية اليسرى , والأوعية اللمفية للثلث السفلي للمري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48280" indent="-548280" algn="r" rtl="1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الفتحة الاجوفية : تقع ضمن الوتر المركزي عند مستوى الفقرة الصدرية الثامنة , وتمرر الوريد الاجوف السفلي , والفروع النهائية للعصب الحجابي الايمن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9559-AEE8-4C3D-93D9-9EEBB73A06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912CD-EBF1-40B2-B040-9188D1E87941}" type="datetime8">
              <a:rPr lang="en-US"/>
              <a:t>07/30/26 22:06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ffff99"/>
                </a:solidFill>
                <a:latin typeface="Arial"/>
              </a:rPr>
              <a:t>فتحات احجاب الحاج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ar-SY" sz="3200" spc="-1" strike="noStrike" u="sng">
                <a:solidFill>
                  <a:srgbClr val="ff5050"/>
                </a:solidFill>
                <a:uFillTx/>
                <a:latin typeface="Verdana"/>
              </a:rPr>
              <a:t>فتحات اخرى</a:t>
            </a: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الاعصاب الحشوية 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الجذعان الوديان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الاوعية الشرسوفية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الحزم الوعائية العصبية من المسافات الوربية </a:t>
            </a: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العصب الحجابي الايسر  يثقب القبة ليعصب الصفاق على سطحها السفلي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219-4FB2-4688-A0BA-B6F0A5B1F2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42286-6AD9-4819-A372-6B2A10413015}" type="datetime8">
              <a:rPr lang="en-US"/>
              <a:t>07/30/26 22:06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ffff99"/>
                </a:solidFill>
                <a:latin typeface="Arial"/>
              </a:rPr>
              <a:t>تعصيب الحجاب الحاجز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ar-SY" sz="3200" spc="-1" strike="noStrike" u="sng">
                <a:solidFill>
                  <a:srgbClr val="ff5050"/>
                </a:solidFill>
                <a:uFillTx/>
                <a:latin typeface="Verdana"/>
              </a:rPr>
              <a:t>العصب الحجابي</a:t>
            </a: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: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3,C4,C5</a:t>
            </a: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.حيث يعطي الياف حركية بالطرفين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ar-SY" sz="3200" spc="-1" strike="noStrike" u="sng">
                <a:solidFill>
                  <a:srgbClr val="ff5050"/>
                </a:solidFill>
                <a:uFillTx/>
                <a:latin typeface="Verdana"/>
              </a:rPr>
              <a:t>العصب الحجابي</a:t>
            </a: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: الياف حسية للصفاق الجداري المغطي للسطح المركزي للحجاب , وللجنبة الجدارية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ar-SY" sz="3200" spc="-1" strike="noStrike" u="sng">
                <a:solidFill>
                  <a:srgbClr val="ff5050"/>
                </a:solidFill>
                <a:uFillTx/>
                <a:latin typeface="Verdana"/>
              </a:rPr>
              <a:t>الاعصاب الوربية الستة السفلية</a:t>
            </a: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: الياف حسية لمحيط الحجاب الحاجز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90C3-44B9-46B7-9DD1-38980F7F1D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4F2A5-00B4-4365-A376-6AFD2CC290A0}" type="datetime8">
              <a:rPr lang="en-US"/>
              <a:t>07/30/26 22:06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ffff99"/>
                </a:solidFill>
                <a:latin typeface="Arial"/>
              </a:rPr>
              <a:t>وظائف الحجاب الحاجز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 algn="r" rtl="1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عندما يتقلص الحجاب الحاجز يسحب وتره المركزي للأسفل فيزداد قطر الصدر العمودي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48280" indent="-548280" algn="r" rtl="1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2800" spc="-1" strike="noStrike" u="sng">
                <a:solidFill>
                  <a:srgbClr val="cc3300"/>
                </a:solidFill>
                <a:uFillTx/>
                <a:latin typeface="Verdana"/>
              </a:rPr>
              <a:t>عضلة شهيقية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: هو العضلة الاكثر اهمية المستخدمة في الشهيق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48280" indent="-548280" algn="r" rtl="1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2800" spc="-1" strike="noStrike" u="sng">
                <a:solidFill>
                  <a:srgbClr val="cc3300"/>
                </a:solidFill>
                <a:uFillTx/>
                <a:latin typeface="Verdana"/>
              </a:rPr>
              <a:t>عضلة لشد وتوتير عضلات جدار البطن الامامي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. ويخدم ذلك لرفع الضغط ضمن البطن وتفريغ المحتويات الحوضية ويساعد ايضا عند دفعه للأسفل بالشهيق العميق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48280" indent="-548280" algn="r" rtl="1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2800" spc="-1" strike="noStrike" u="sng">
                <a:solidFill>
                  <a:srgbClr val="cc3300"/>
                </a:solidFill>
                <a:uFillTx/>
                <a:latin typeface="Verdana"/>
              </a:rPr>
              <a:t>عضلة لرفع الاوزان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.برفع الضغط ضمن البطن ودعم العمود الفقري لمنع انحنائه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48280" indent="-548280" algn="r" rtl="1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2800" spc="-1" strike="noStrike" u="sng">
                <a:solidFill>
                  <a:srgbClr val="cc3300"/>
                </a:solidFill>
                <a:uFillTx/>
                <a:latin typeface="Verdana"/>
              </a:rPr>
              <a:t>مضخة صدرية – بطنية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. عند انخفاض الحجاب للأسفل ينخفض الضغط ضمن الصدر ويرتفع ضمن البطن مما يسهل مرور محتويات الاجوف السفلي والقناة الصدرية من البطن الى الصدر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48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EE3E-2B94-4ABF-92E0-D67D4AF73F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8E203-D018-4CEA-A75C-9E2DB78769FD}" type="datetime8">
              <a:rPr lang="en-US"/>
              <a:t>07/30/26 22:0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5472000" cy="446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A18-3EBE-4816-AF13-4156B23E0C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9550B-5FB6-47EC-A2CF-77A5D87DF092}" type="datetime8">
              <a:rPr lang="en-US"/>
              <a:t>07/30/26 22:06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176720" cy="446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CDE-893E-4E81-82A7-C6749DB4E41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B01E3-D7AF-480F-BAC2-C91E7432416C}" type="datetime8">
              <a:rPr lang="en-US"/>
              <a:t>07/30/26 22:06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967280" cy="453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2CD2-D1AD-4849-8C61-FDCE880B51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FFF82-F09F-46A7-A42B-1B6AFB5AF2D3}" type="datetime8">
              <a:rPr lang="en-US"/>
              <a:t>07/30/26 22:0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1:53:33Z</dcterms:created>
  <dc:creator>د.قدري الحاج مصطفى</dc:creator>
  <dc:description/>
  <dc:language>en-US</dc:language>
  <cp:lastModifiedBy>د.قدري الحاج مصطفى</cp:lastModifiedBy>
  <dcterms:modified xsi:type="dcterms:W3CDTF">2009-02-08T11:07:57Z</dcterms:modified>
  <cp:revision>30</cp:revision>
  <dc:subject/>
  <dc:title>الحجاب الحاجز</dc:title>
</cp:coreProperties>
</file>