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96EB-D4E4-426C-A937-4327FF89128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9EE1-930D-4346-B1B0-E9338AD10F7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fld id="{50604369-5A04-4D0F-B799-FBFB9A037C3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fld id="{645BFB5A-BF87-4559-98BF-344BB1168AF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1D2E-6C7F-4867-AF63-3572019BE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5CE0-DCFF-43B9-A0FA-AA8165A0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2C7E-92CC-4D17-B4A6-7AA129D01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8553-0853-4D33-8022-DCC0CDCB1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DF9C-10CD-46D2-BA5A-D71158910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185E-11FF-42FB-AC29-3BCEAD96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30264-2EA0-4B82-82A5-582343C0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12AC-2BAE-430E-90C3-221E2FF2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6205-E7FA-4526-A3AA-44AE6B0D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9B93A-A812-4D27-A7A0-2CB740C2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0F49-0D3C-43EB-A31E-09C2E1D7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E912-DC81-4B51-99C2-CC2D5B3C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25BF-22D0-4284-B714-D71F07FE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EC18-1395-4132-BB21-A983C2EF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E0F1-D8FC-4579-BFE2-62947CBE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67AD-ACCE-4F71-92F8-087EF2C24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DD71F-D7A4-4803-9FC5-77FCFECCD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F46C-EFDC-481A-96A4-B2EA53E0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2C66-5465-46A5-AEB1-01E94B5B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3C2C-7F99-4C73-85EA-3E7D0210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710F-F37F-4F51-9D00-CF9DEBA4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556B-0900-4AC8-AC8C-381B4954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D96B-89B2-47A6-B9FE-759C2257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55F2-91E9-4D11-BC4D-613A4C57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10BE-0487-4087-8A08-3C16B427B13A}" type="datetime">
              <a:rPr b="0" lang="ar-SA" sz="1000" spc="-1" strike="noStrike">
                <a:solidFill>
                  <a:srgbClr val="ffffff"/>
                </a:solidFill>
                <a:latin typeface="Verdana"/>
              </a:rPr>
              <a:t>١٤٤٨/٠٢/١٥</a:t>
            </a:fld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 </a:t>
            </a:r>
            <a:fld id="{E91D6513-A837-4CEC-AF15-D9E1C83D97BF}" type="datetime10">
              <a:rPr b="0" lang="ar-SA" sz="1000" spc="-1" strike="noStrike">
                <a:solidFill>
                  <a:srgbClr val="ffffff"/>
                </a:solidFill>
                <a:latin typeface="Verdana"/>
              </a:rPr>
              <a:t>12:35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F8AC-E42D-46B8-AFB2-F871A63F357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BDD4-68B3-4701-B75F-C1D5539F2701}" type="datetime">
              <a:rPr b="0" lang="ar-SA" sz="1000" spc="-1" strike="noStrike">
                <a:solidFill>
                  <a:srgbClr val="ffffff"/>
                </a:solidFill>
                <a:latin typeface="Verdana"/>
              </a:rPr>
              <a:t>١٤٤٨/٠٢/١٥</a:t>
            </a:fld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 </a:t>
            </a:r>
            <a:fld id="{4B45A94E-1C09-4078-B84A-BC0AFBD6BF5C}" type="datetime10">
              <a:rPr b="0" lang="ar-SA" sz="1000" spc="-1" strike="noStrike">
                <a:solidFill>
                  <a:srgbClr val="ffffff"/>
                </a:solidFill>
                <a:latin typeface="Verdana"/>
              </a:rPr>
              <a:t>12:35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43A3-3242-452D-9273-5BA374E102F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-1108080"/>
            <a:ext cx="77724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000" spc="-1" strike="noStrike">
                <a:solidFill>
                  <a:srgbClr val="ff5050"/>
                </a:solidFill>
                <a:latin typeface="Arial"/>
              </a:rPr>
              <a:t>الحجاب الحاجز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96472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12880" indent="-812880" algn="r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Y" sz="2800" spc="-1" strike="noStrike">
                <a:solidFill>
                  <a:srgbClr val="ffffff"/>
                </a:solidFill>
                <a:latin typeface="Verdana"/>
              </a:rPr>
              <a:t>ينفتح الصدر في الاسفل على البطن بفتحة عريضة حدودها : المفصل الرهابي القصي , والحافة الضلعية , وجسم  الفقرة الصدرية الثانية عشر . وهي مغلقة بحاجز عضلي وتري , هو الحجاب الحاجز, الذي يخترق من قبل البنى المارة بين الصدر والبطن</a:t>
            </a:r>
            <a:r>
              <a:rPr b="0" lang="ar-SY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Y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812880" indent="-812880" algn="r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Y" sz="2800" spc="-1" strike="noStrike">
                <a:solidFill>
                  <a:srgbClr val="ffffff"/>
                </a:solidFill>
                <a:latin typeface="Verdana"/>
              </a:rPr>
              <a:t>الحجاب الحاجز هو عضلة التنفس الرئيسية. وله شكل القبة , وتالف من جزء عضلي محيطي, ينشا من حواف الفتحة الصدرية , وآخر وري مركزي</a:t>
            </a:r>
            <a:r>
              <a:rPr b="0" lang="ar-SY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Y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812880" indent="-812880" algn="r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Y" sz="2800" spc="-1" strike="noStrike">
                <a:solidFill>
                  <a:srgbClr val="ffffff"/>
                </a:solidFill>
                <a:latin typeface="Verdana"/>
              </a:rPr>
              <a:t>يمكن تقسيم منشأ الحجاب الحاجز الى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ar-SY" sz="2800" spc="-1" strike="noStrike">
                <a:solidFill>
                  <a:srgbClr val="ffffff"/>
                </a:solidFill>
                <a:latin typeface="Verdana"/>
              </a:rPr>
              <a:t>ثلاثة اجزاء</a:t>
            </a:r>
            <a:r>
              <a:rPr b="0" lang="ar-SY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Y" sz="2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812880" indent="-812880" algn="r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Y" sz="2800" spc="-1" strike="noStrike" u="sng">
                <a:solidFill>
                  <a:srgbClr val="ff5050"/>
                </a:solidFill>
                <a:uFillTx/>
                <a:latin typeface="Verdana"/>
              </a:rPr>
              <a:t>جزء قصي :</a:t>
            </a:r>
            <a:r>
              <a:rPr b="0" lang="ar-SY" sz="2800" spc="-1" strike="noStrike">
                <a:solidFill>
                  <a:srgbClr val="ffffff"/>
                </a:solidFill>
                <a:latin typeface="Verdana"/>
              </a:rPr>
              <a:t> يتآلف من شريطين ايمن وأيسر صغيرين وينشا من الوجه الخلفي للرهابة</a:t>
            </a:r>
            <a:r>
              <a:rPr b="0" lang="ar-SY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Y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812880" indent="-812880" algn="r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Y" sz="2800" spc="-1" strike="noStrike" u="sng">
                <a:solidFill>
                  <a:srgbClr val="ff5050"/>
                </a:solidFill>
                <a:uFillTx/>
                <a:latin typeface="Verdana"/>
              </a:rPr>
              <a:t>جزء ضلعي</a:t>
            </a:r>
            <a:r>
              <a:rPr b="0" lang="ar-SY" sz="2800" spc="-1" strike="noStrike">
                <a:solidFill>
                  <a:srgbClr val="ffffff"/>
                </a:solidFill>
                <a:latin typeface="Verdana"/>
              </a:rPr>
              <a:t> : يتألف من ستة اشرطة وتنشا من السطوح العميقة للاضلاع الستة السفلية وغضاريفها</a:t>
            </a:r>
            <a:r>
              <a:rPr b="0" lang="ar-SY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ar-SY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812880" indent="-812880" algn="r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Y" sz="2800" spc="-1" strike="noStrike" u="sng">
                <a:solidFill>
                  <a:srgbClr val="ff5050"/>
                </a:solidFill>
                <a:uFillTx/>
                <a:latin typeface="Verdana"/>
              </a:rPr>
              <a:t>جزء فقري</a:t>
            </a:r>
            <a:r>
              <a:rPr b="0" lang="ar-SY" sz="2800" spc="-1" strike="noStrike">
                <a:solidFill>
                  <a:srgbClr val="ffffff"/>
                </a:solidFill>
                <a:latin typeface="Verdana"/>
              </a:rPr>
              <a:t> : ينشا من الاربطة المقوسة والعمودين الشاقوليين</a:t>
            </a:r>
            <a:r>
              <a:rPr b="0" lang="ar-SY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Y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75EB-676F-4231-B7E6-E202B38ADA8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1FB9400-5B70-4EA5-BA92-5182F058B671}" type="datetime8">
              <a:rPr lang="en-US"/>
              <a:t>07/29/26 12:35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5183280" cy="446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E343-DCA7-4E80-B122-4BE37C757F3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6200F0-CAE3-45B4-9309-B3E90FEAD2A1}" type="datetime8">
              <a:rPr lang="en-US"/>
              <a:t>07/29/26 12:35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61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Verdana"/>
              </a:rPr>
              <a:t>غياب حجاب حاجز ايس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395280" y="1557360"/>
            <a:ext cx="4321080" cy="45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EB66-A576-4856-8976-04C13E4DE02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6D9686-A91C-4396-B899-E808521BFC7D}" type="datetime8">
              <a:rPr lang="en-US"/>
              <a:t>07/29/26 12:35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000" spc="-1" strike="noStrike">
                <a:solidFill>
                  <a:srgbClr val="ffff99"/>
                </a:solidFill>
                <a:latin typeface="Arial"/>
              </a:rPr>
              <a:t>شكل الحجاب الحاجز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89647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Verdana"/>
              </a:rPr>
              <a:t> يبدو الحجاب الحاجز بالنظر اليه من الامام منحنيا للأعلى على شكل قبتين يمنى ويسرى .تصل القبة اليمنى الى الحافة العلوية للضلع الخامس , بينما القبة السرى تصل الى الحافة السفلية للضلع الخامس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Verdana"/>
              </a:rPr>
              <a:t> يتوضع الوتر المركزي عند مستوى  المفصل الرهابي – القصي . يتغير مستوى الحجاب بتغير طور التنفس والوضعية  ودرجة تمدد الاحشاء البطنية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Verdana"/>
              </a:rPr>
              <a:t> بالنظر اليه من الجانب , يبدو الحجاب الحاجز على شكل حرف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</a:t>
            </a:r>
            <a:r>
              <a:rPr b="0" lang="ar-SY" sz="3200" spc="-1" strike="noStrike">
                <a:solidFill>
                  <a:srgbClr val="ffffff"/>
                </a:solidFill>
                <a:latin typeface="Verdana"/>
              </a:rPr>
              <a:t> الانكليزي بالمقلوب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329E-95E6-4C01-9B58-FAA70423EF9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294BA7-6853-46CB-80C8-1EFB814AE777}" type="datetime8">
              <a:rPr lang="en-US"/>
              <a:t>07/29/26 12:35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000" spc="-1" strike="noStrike">
                <a:solidFill>
                  <a:srgbClr val="ffff99"/>
                </a:solidFill>
                <a:latin typeface="Arial"/>
              </a:rPr>
              <a:t>فتحات احجاب الحاجز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 algn="r" rtl="1">
              <a:spcBef>
                <a:spcPts val="799"/>
              </a:spcBef>
              <a:buClr>
                <a:srgbClr val="ffff99"/>
              </a:buClr>
              <a:buFont typeface="Wingding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Verdana"/>
              </a:rPr>
              <a:t>  للحجاب الحاجز ثلاث فتحات رئيسية هي 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48280" indent="-548280" algn="r" rtl="1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Verdana"/>
              </a:rPr>
              <a:t>الفتحة الابهر ية : تقع امام جسم الفقرة الصدرية الثانية عشرة . تمرر الابهر والقناة الصدرية والوريد الفرد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48280" indent="-548280" algn="r" rtl="1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Verdana"/>
              </a:rPr>
              <a:t>الفتحة المريئية : تقع عند مستوى الفقرة الصدرية العاشرة و في وشاح من الالياف العضلية تأتي من الساق اليمنى, وتمرر المريء , العصبان المبهمان الايمن والأيسر , الفروع المريئية للأوعية المعدية اليسرى , والأوعية اللمفية للثلث السفلي للمري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48280" indent="-548280" algn="r" rtl="1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Verdana"/>
              </a:rPr>
              <a:t>الفتحة الاجوفية : تقع ضمن الوتر المركزي عند مستوى الفقرة الصدرية الثامنة , وتمرر الوريد الاجوف السفلي , والفروع النهائية للعصب الحجابي الايمن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2D0D-8E70-4890-B187-202C4C5642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E46A7A-9495-4594-8DAE-5330FC861464}" type="datetime8">
              <a:rPr lang="en-US"/>
              <a:t>07/29/26 12:35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400" spc="-1" strike="noStrike">
                <a:solidFill>
                  <a:srgbClr val="ffff99"/>
                </a:solidFill>
                <a:latin typeface="Arial"/>
              </a:rPr>
              <a:t>فتحات احجاب الحاجز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99"/>
              </a:buClr>
              <a:buFont typeface="Wingding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ar-SY" sz="3200" spc="-1" strike="noStrike" u="sng">
                <a:solidFill>
                  <a:srgbClr val="ff5050"/>
                </a:solidFill>
                <a:uFillTx/>
                <a:latin typeface="Verdana"/>
              </a:rPr>
              <a:t>فتحات اخرى</a:t>
            </a:r>
            <a:r>
              <a:rPr b="0" lang="ar-SY" sz="32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Verdana"/>
              </a:rPr>
              <a:t>الاعصاب الحشوية 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Verdana"/>
              </a:rPr>
              <a:t>الجذعان الوديان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Verdana"/>
              </a:rPr>
              <a:t>الاوعية الشرسوفية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Verdana"/>
              </a:rPr>
              <a:t>الحزم الوعائية العصبية من المسافات الوربية </a:t>
            </a:r>
            <a:r>
              <a:rPr b="0" lang="ar-SY" sz="3200" spc="-1" strike="noStrike">
                <a:solidFill>
                  <a:srgbClr val="ffffff"/>
                </a:solidFill>
                <a:latin typeface="Verdana"/>
              </a:rPr>
              <a:t>7</a:t>
            </a:r>
            <a:r>
              <a:rPr b="0" lang="ar-SY" sz="32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ar-SY" sz="32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ar-SY" sz="3200" spc="-1" strike="noStrike">
                <a:solidFill>
                  <a:srgbClr val="ffffff"/>
                </a:solidFill>
                <a:latin typeface="Verdana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Verdana"/>
              </a:rPr>
              <a:t>العصب الحجابي الايسر  يثقب القبة ليعصب الصفاق على سطحها السفلي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4A2B-3E53-4ACC-ADF9-4A21F7EF4E1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7E8C46-D82D-4A05-AEA4-1159BD6B8C6A}" type="datetime8">
              <a:rPr lang="en-US"/>
              <a:t>07/29/26 12:35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000" spc="-1" strike="noStrike">
                <a:solidFill>
                  <a:srgbClr val="ffff99"/>
                </a:solidFill>
                <a:latin typeface="Arial"/>
              </a:rPr>
              <a:t>تعصيب الحجاب الحاجز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99"/>
              </a:buClr>
              <a:buFont typeface="Wingding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ar-SY" sz="3200" spc="-1" strike="noStrike" u="sng">
                <a:solidFill>
                  <a:srgbClr val="ff5050"/>
                </a:solidFill>
                <a:uFillTx/>
                <a:latin typeface="Verdana"/>
              </a:rPr>
              <a:t>العصب الحجابي</a:t>
            </a:r>
            <a:r>
              <a:rPr b="0" lang="ar-SY" sz="3200" spc="-1" strike="noStrike">
                <a:solidFill>
                  <a:srgbClr val="ffffff"/>
                </a:solidFill>
                <a:latin typeface="Verdana"/>
              </a:rPr>
              <a:t> :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3,C4,C5</a:t>
            </a:r>
            <a:r>
              <a:rPr b="0" lang="ar-SY" sz="3200" spc="-1" strike="noStrike">
                <a:solidFill>
                  <a:srgbClr val="ffffff"/>
                </a:solidFill>
                <a:latin typeface="Verdana"/>
              </a:rPr>
              <a:t> .حيث يعطي الياف حركية بالطرفين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99"/>
              </a:buClr>
              <a:buFont typeface="Wingding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ar-SY" sz="3200" spc="-1" strike="noStrike" u="sng">
                <a:solidFill>
                  <a:srgbClr val="ff5050"/>
                </a:solidFill>
                <a:uFillTx/>
                <a:latin typeface="Verdana"/>
              </a:rPr>
              <a:t>العصب الحجابي</a:t>
            </a:r>
            <a:r>
              <a:rPr b="0" lang="ar-SY" sz="3200" spc="-1" strike="noStrike">
                <a:solidFill>
                  <a:srgbClr val="ffffff"/>
                </a:solidFill>
                <a:latin typeface="Verdana"/>
              </a:rPr>
              <a:t> : الياف حسية للصفاق الجداري المغطي للسطح المركزي للحجاب , وللجنبة الجدارية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99"/>
              </a:buClr>
              <a:buFont typeface="Wingding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ar-SY" sz="3200" spc="-1" strike="noStrike" u="sng">
                <a:solidFill>
                  <a:srgbClr val="ff5050"/>
                </a:solidFill>
                <a:uFillTx/>
                <a:latin typeface="Verdana"/>
              </a:rPr>
              <a:t>الاعصاب الوربية الستة السفلية</a:t>
            </a:r>
            <a:r>
              <a:rPr b="0" lang="ar-SY" sz="3200" spc="-1" strike="noStrike">
                <a:solidFill>
                  <a:srgbClr val="ffffff"/>
                </a:solidFill>
                <a:latin typeface="Verdana"/>
              </a:rPr>
              <a:t> : الياف حسية لمحيط الحجاب الحاجز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CF4F-5621-40A5-A111-C08F72F4CB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EAFD39-8084-4A7D-BECA-FB6D516E99E1}" type="datetime8">
              <a:rPr lang="en-US"/>
              <a:t>07/29/26 12:3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400" spc="-1" strike="noStrike">
                <a:solidFill>
                  <a:srgbClr val="ffff99"/>
                </a:solidFill>
                <a:latin typeface="Arial"/>
              </a:rPr>
              <a:t>وظائف الحجاب الحاجز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 algn="r" rtl="1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ffff"/>
                </a:solidFill>
                <a:latin typeface="Verdana"/>
              </a:rPr>
              <a:t> عندما يتقلص الحجاب الحاجز يسحب وتره المركزي للأسفل فيزداد قطر الصدر العمودي 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48280" indent="-548280" algn="r" rtl="1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Y" sz="2800" spc="-1" strike="noStrike" u="sng">
                <a:solidFill>
                  <a:srgbClr val="cc3300"/>
                </a:solidFill>
                <a:uFillTx/>
                <a:latin typeface="Verdana"/>
              </a:rPr>
              <a:t>عضلة شهيقية</a:t>
            </a:r>
            <a:r>
              <a:rPr b="0" lang="ar-SY" sz="2800" spc="-1" strike="noStrike">
                <a:solidFill>
                  <a:srgbClr val="ffffff"/>
                </a:solidFill>
                <a:latin typeface="Verdana"/>
              </a:rPr>
              <a:t> : هو العضلة الاكثر اهمية المستخدمة في الشهيق 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48280" indent="-548280" algn="r" rtl="1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Y" sz="2800" spc="-1" strike="noStrike" u="sng">
                <a:solidFill>
                  <a:srgbClr val="cc3300"/>
                </a:solidFill>
                <a:uFillTx/>
                <a:latin typeface="Verdana"/>
              </a:rPr>
              <a:t>عضلة لشد وتوتير عضلات جدار البطن الامامي</a:t>
            </a:r>
            <a:r>
              <a:rPr b="0" lang="ar-SY" sz="2800" spc="-1" strike="noStrike">
                <a:solidFill>
                  <a:srgbClr val="ffffff"/>
                </a:solidFill>
                <a:latin typeface="Verdana"/>
              </a:rPr>
              <a:t> . ويخدم ذلك لرفع الضغط ضمن البطن وتفريغ المحتويات الحوضية ويساعد ايضا عند دفعه للأسفل بالشهيق العميق 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48280" indent="-548280" algn="r" rtl="1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Y" sz="2800" spc="-1" strike="noStrike" u="sng">
                <a:solidFill>
                  <a:srgbClr val="cc3300"/>
                </a:solidFill>
                <a:uFillTx/>
                <a:latin typeface="Verdana"/>
              </a:rPr>
              <a:t>عضلة لرفع الاوزان</a:t>
            </a:r>
            <a:r>
              <a:rPr b="0" lang="ar-SY" sz="2800" spc="-1" strike="noStrike">
                <a:solidFill>
                  <a:srgbClr val="ffffff"/>
                </a:solidFill>
                <a:latin typeface="Verdana"/>
              </a:rPr>
              <a:t> .برفع الضغط ضمن البطن ودعم العمود الفقري لمنع انحنائه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48280" indent="-548280" algn="r" rtl="1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Y" sz="2800" spc="-1" strike="noStrike" u="sng">
                <a:solidFill>
                  <a:srgbClr val="cc3300"/>
                </a:solidFill>
                <a:uFillTx/>
                <a:latin typeface="Verdana"/>
              </a:rPr>
              <a:t>مضخة صدرية – بطنية</a:t>
            </a:r>
            <a:r>
              <a:rPr b="0" lang="ar-SY" sz="2800" spc="-1" strike="noStrike">
                <a:solidFill>
                  <a:srgbClr val="ffffff"/>
                </a:solidFill>
                <a:latin typeface="Verdana"/>
              </a:rPr>
              <a:t> . عند انخفاض الحجاب للأسفل ينخفض الضغط ضمن الصدر ويرتفع ضمن البطن مما يسهل مرور محتويات الاجوف السفلي والقناة الصدرية من البطن الى الصدر 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48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6B3A-B488-43B3-9CF1-AF08C984589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64912F-065C-4D6E-A700-E4D906DC7B83}" type="datetime8">
              <a:rPr lang="en-US"/>
              <a:t>07/29/26 12:35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5472000" cy="446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F700-C069-478C-BFE0-63A2A0F8F23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681C6A-0D06-4675-AFB9-73F2D0DCFB30}" type="datetime8">
              <a:rPr lang="en-US"/>
              <a:t>07/29/26 12:35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4176720" cy="446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EE56-ECEF-4096-9D9F-206864B5612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AD2E0C-C9BD-4435-A78F-6CC8A17B080A}" type="datetime8">
              <a:rPr lang="en-US"/>
              <a:t>07/29/26 12:35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967280" cy="453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4505-1164-4F54-B285-9A518D03F33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6A3C84-F236-4D22-B021-06F02A64B82B}" type="datetime8">
              <a:rPr lang="en-US"/>
              <a:t>07/29/26 12:35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1:53:33Z</dcterms:created>
  <dc:creator>د.قدري الحاج مصطفى</dc:creator>
  <dc:description/>
  <dc:language>en-US</dc:language>
  <cp:lastModifiedBy>د.قدري الحاج مصطفى</cp:lastModifiedBy>
  <dcterms:modified xsi:type="dcterms:W3CDTF">2009-02-08T11:07:57Z</dcterms:modified>
  <cp:revision>30</cp:revision>
  <dc:subject/>
  <dc:title>الحجاب الحاجز</dc:title>
</cp:coreProperties>
</file>