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Eve%20Brenner%20-%20Terre%20Natale.wav" ContentType="audio/x-wav"/>
  <Override PartName="/ppt/media/image9.png" ContentType="image/png"/>
  <Override PartName="/ppt/media/image10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F25-CF14-429D-88ED-5B1A8B407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639DF-56EE-44CE-91DD-CFC961317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8EF4-93A9-4569-BFAE-FD936AC48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7958-9C25-433D-BE07-85C7AEF8E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DDC3-639E-4A21-A8EA-0FDEE739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E684-BE4E-4C0F-B9D2-2A282922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195E-3726-49F7-BC58-E3ABD8978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7BFD8-FF36-48FF-8181-6C3C056B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28440-BA10-420A-8C33-61DACB192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B784-B836-4BCF-950A-A824F5BB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D011-42C6-490B-A274-ED9CB5EE9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9C64-7995-4DA0-8E27-A93BC911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1C9A1-AF82-44DF-BD3B-2E3A2140D3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Eve%20Brenner%20-%20Terre%20Natale.wav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1.gif"/><Relationship Id="rId6" Type="http://schemas.openxmlformats.org/officeDocument/2006/relationships/image" Target="../media/image11.gif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360" y="4437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Als de roos haar geur verliest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2" name="Eve%20Brenner%20-%20Terre%20Natal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En de wereld lijkt ten ein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61928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Als de dag haar glans verli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11280" y="4797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Wat een geschenk is een vrie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6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000000"/>
                </a:solidFill>
                <a:latin typeface="Arial"/>
              </a:rPr>
              <a:t>Een die je neemt zoals je b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547640" y="486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Die niet kijkt hoe je eruit ziet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475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3300"/>
                </a:solidFill>
                <a:latin typeface="Arial"/>
              </a:rPr>
              <a:t>Die al je gebreken ke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76360" y="4365360"/>
            <a:ext cx="640080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3300"/>
                </a:solidFill>
                <a:latin typeface="Arial"/>
              </a:rPr>
              <a:t>Maar die steeds van je blijft  houd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ffffff"/>
                </a:solidFill>
                <a:latin typeface="Arial"/>
              </a:rPr>
              <a:t>De hemel geeft je iedere mor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403280" y="4723920"/>
            <a:ext cx="640080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Een nieuwe da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11280" y="3068280"/>
            <a:ext cx="7772400" cy="1469880"/>
          </a:xfrm>
          <a:prstGeom prst="rect">
            <a:avLst/>
          </a:prstGeom>
          <a:solidFill>
            <a:srgbClr val="969696">
              <a:alpha val="34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Wat een geluk dat je elke dag opnieuw gezegend bent met…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332000" y="5105520"/>
            <a:ext cx="64008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000" spc="-1" strike="noStrike">
                <a:solidFill>
                  <a:srgbClr val="ffffff"/>
                </a:solidFill>
                <a:latin typeface="Arial"/>
              </a:rPr>
              <a:t>Een vriend!!!!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9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4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9079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6000" spc="-1" strike="noStrike">
                <a:solidFill>
                  <a:srgbClr val="ffffff"/>
                </a:solidFill>
                <a:latin typeface="Arial"/>
              </a:rPr>
              <a:t>Have a nice day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>
    <p:blinds dir="ver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1" dur="500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4" dur="25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9T12:28:51Z</dcterms:created>
  <dc:creator/>
  <dc:description/>
  <dc:language>en-US</dc:language>
  <cp:lastModifiedBy>Smets</cp:lastModifiedBy>
  <dcterms:modified xsi:type="dcterms:W3CDTF">2011-10-22T05:19:54Z</dcterms:modified>
  <cp:revision>10</cp:revision>
  <dc:subject/>
  <dc:title>Als de roos haar geur verliest……</dc:title>
</cp:coreProperties>
</file>