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ve%20Brenner%20-%20Terre%20Natale.wav" ContentType="audio/x-wav"/>
  <Override PartName="/ppt/media/image9.png" ContentType="image/png"/>
  <Override PartName="/ppt/media/image10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B61-3344-4872-BA3C-5975F598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F65-B5A2-4AF1-AABC-2FC21881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D99-AFCB-4FC0-BC32-B4DB96F3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26C-51BF-492E-A575-5882AFF6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0E0-3A3B-4606-B5B0-B2E83B82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6A8-7A61-4DA1-8940-C97F1AC8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E06-AAD7-4905-8C3A-2FDA6FF0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714-0B47-46DB-9CB8-1AA77ED5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352-A81B-4E1F-9A30-A0622B19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5BE-0A67-4CCD-ABDE-241CF1FA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7AA-38D4-4912-864C-270B56C1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3CB-35D1-4C06-80AD-9638BB63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B249-2977-4AC1-8EA3-E8B490E3B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ve%20Brenner%20-%20Terre%20Natal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Arial"/>
              </a:rPr>
              <a:t>Als de roos haar geur verlies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Eve%20Brenner%20-%20Terre%20Natal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Arial"/>
              </a:rPr>
              <a:t>En de wereld lijkt ten e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19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Als de dag haar glans verli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79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Arial"/>
              </a:rPr>
              <a:t>Wat een geschenk is een v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000000"/>
                </a:solidFill>
                <a:latin typeface="Arial"/>
              </a:rPr>
              <a:t>Een die je neemt zoals je b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Die niet kijkt hoe je eruit zie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3300"/>
                </a:solidFill>
                <a:latin typeface="Arial"/>
              </a:rPr>
              <a:t>Die al je gebreken ke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6360" y="43653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3300"/>
                </a:solidFill>
                <a:latin typeface="Arial"/>
              </a:rPr>
              <a:t>Maar die steeds van je blijft  hou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Arial"/>
              </a:rPr>
              <a:t>De hemel geeft je iedere mor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Een nieuwe d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469880"/>
          </a:xfrm>
          <a:prstGeom prst="rect">
            <a:avLst/>
          </a:prstGeom>
          <a:solidFill>
            <a:srgbClr val="969696">
              <a:alpha val="3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Wat een geluk dat je elke dag opnieuw gezegend bent me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Een vriend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6000" spc="-1" strike="noStrike">
                <a:solidFill>
                  <a:srgbClr val="ffffff"/>
                </a:solidFill>
                <a:latin typeface="Arial"/>
              </a:rPr>
              <a:t>Have a nice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2:28:51Z</dcterms:created>
  <dc:creator/>
  <dc:description/>
  <dc:language>en-US</dc:language>
  <cp:lastModifiedBy>Smets</cp:lastModifiedBy>
  <dcterms:modified xsi:type="dcterms:W3CDTF">2011-10-22T05:19:54Z</dcterms:modified>
  <cp:revision>10</cp:revision>
  <dc:subject/>
  <dc:title>Als de roos haar geur verliest……</dc:title>
</cp:coreProperties>
</file>