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070-A906-419D-9D7B-8BF87487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E9B-2667-42C2-8A06-43067161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0B6-8C4B-41A9-A598-976D944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975-DD6B-4D59-A7D9-6A16AB8E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7AF-C138-4A91-9A5D-BB8CB14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386-2B44-4DD2-9956-98CC4E02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D82-DC7D-47F5-9372-0A255F10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74C-3E67-47F3-B8A0-88AEA310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18A-236F-4C38-B283-B86F8287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D22-51A2-4685-A309-09E5633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78E-B564-4144-A004-F4A1C88B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211-AEDC-470B-BCA5-6220F96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1EA2-BD72-48C8-A7A5-8D74E8E567C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09:35Z</dcterms:modified>
  <cp:revision>24</cp:revision>
  <dc:subject/>
  <dc:title>슬라이드 1</dc:title>
</cp:coreProperties>
</file>