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4D1-63AC-42F1-B352-D6BFDBBB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20A-8DFE-4702-957F-58AD0665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87D-AF43-46F7-B688-75F07534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EFB-BF49-4176-ACB9-A016F136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07D-74C1-4DD5-805F-9069A3F0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238-D0C6-4B50-BE08-9CF1C8A2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D4E-6AC6-4D8A-AC2A-8FE64ACA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DE3-954A-4B09-82D2-D417EAFC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B12-0CC6-44E2-8EFA-0774F171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FAC-32BC-4B52-928C-18025A5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5E3-C567-4492-9CB9-ECF08F27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3E3-BE7B-4EA2-AB0A-9F4D6D2D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F8C0-962F-460D-844C-4BB1D093E4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7:09:35Z</dcterms:modified>
  <cp:revision>24</cp:revision>
  <dc:subject/>
  <dc:title>슬라이드 1</dc:title>
</cp:coreProperties>
</file>