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ti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82c1e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918D-7A4A-4FD8-8A78-C33566617463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04BD-EF55-4E9E-AA31-7F19DDD662EA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4EC-D277-46EB-A390-393007EF78CB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7A20-E6D0-4BD0-95C3-26DDE78EC722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E7FD-F228-4405-BE7A-26B4949E8FDC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A087-E93A-48E5-9D88-530ED7FFCEA6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1D70-8F27-4293-84F7-4842867685D3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A2AD-0FA6-460A-8F7E-3496D3D0FD36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0B2-E4CB-4274-BC84-1B86444112C1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287B-FA91-4968-AFBF-281E0B250F7C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91E-0B16-457F-8F02-6CD97E621C8A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66F0-B335-4E3D-8EC9-A4D5FCA4D330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8FE8-BD0A-4333-A2C5-44A4F0EEC2FD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C0A-5E80-474F-B906-5ED9D368A2EA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98D7-36FE-42EF-A991-47DA0C14A6DF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D57-EDFF-454C-AB88-FD5A51064555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C9BC-B104-4661-9DCB-851969848319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53FC-C24D-4590-8538-00CF205A8402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F9E2-46D4-46B4-8238-EAD6452CC082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2BC3-EAE3-4D17-90EC-6F375BA02DEB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F9F5-8A0E-4F02-A1DA-9090BE7F9DB4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1873-7866-4B93-BB07-BD4462FDFC47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55B4-AB0C-43A3-A159-F136C5818DAD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BADD-349A-4D7F-A8F6-A1F0CD3BE47B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C1B8-C4E6-4351-9919-B3FAC7B6B71A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17D-8665-4BFC-BE5B-08D1A9AC617A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AC3-D0CF-4A23-A44C-D3D4F4ECFC3E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F74-3E9A-47BA-B0CE-7BD2A24A33ED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5FFF-E089-49D7-ACA6-FC074B2D49D3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E166-22D1-411C-A74A-20F486FC696C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9D03-A878-408B-A207-6C0E03180A4B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C02A-849B-4455-8799-E36445F4D773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01A9-E146-494A-8399-012EC661C829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1DD9-F4A9-46F4-9323-F80185B6CDEF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57D3-49BD-41FB-B822-EBBC7659A01C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D7C6-16E7-4B6E-837F-C9E742608BF8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9683-008E-4807-8E11-DF66743BA218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542B-E69D-4C42-9FAC-6DAD3308D314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CCE-1B09-4FD3-8437-768D0CBBD8EE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8A1-6F71-4408-8521-8D0CBB53283D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CC30-1E4A-4F12-9E3F-D0C421B6599B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63E-7DEC-4EC8-8A5A-8BBF7EE58B3F}" type="slidenum">
              <a:rPr b="0" lang="en-US" sz="1200" spc="-1" strike="noStrike">
                <a:solidFill>
                  <a:srgbClr val="282c1e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507-05CF-4FEB-A874-3724F327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C34-EBC1-4F16-B00D-740094A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651-C16C-4F9B-B842-ACFA0DDE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F7B-80BE-483C-867B-A6230256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0EFB-99B3-4124-A430-F9AD3D65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BB15-8EF3-47C5-96A0-E17063E8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86AA-A03C-41C1-A742-86A22031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320B-7311-4782-B348-F4D31632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CCFA-2831-4DAC-9195-E631CCF6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A681-DE2A-4629-A478-A2352716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1BC4-9AE6-4750-91B2-07347376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FD3-1A75-4F1D-8979-312D4475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87AB-0643-43E3-9744-D304408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F7E-4327-4FE6-8E2F-B945BDB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6D8C-D9F1-494E-9F1D-327AE72D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82C4-799E-4C75-B6B5-91F89E39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3455-7EC1-427B-A6A8-58993B34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2C1A2-60D5-4376-A792-7FEEA345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40AD-AC77-4FA0-BBB0-AA7BD8B2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BA1F-CA5B-4A53-AFDA-000B1C6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F35B-EF11-465C-AE3D-A2C1BB97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8B0A-B32E-4C4E-90C2-6FA379CE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16F-3F24-4BA8-AB54-F0BD31F2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0011-99DC-44C5-B12A-D73C482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E4C0-2C28-44F4-B4A6-E7C927E7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079A-DFB4-443F-AC04-3B43D27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3A81-4F5A-4EA9-A38C-656CAAA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DBA2-19E8-46BA-A808-0B58E99C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31B4-B847-4042-996F-D1762D14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3F5C-8A09-425C-8438-4CFE4341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9EEA-B55B-4B63-8570-54662D15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7246-64E4-48F7-827A-340EB76A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0A4FF-4454-4DDA-8E49-CC59E99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3A6-69C2-4241-B87B-48C100D4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6636-C6A6-4A31-8A34-43C4493C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53691-D7E3-4274-A26B-BD874930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9721-7221-4326-9F11-82E02C2C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740E0-81D5-4A8B-BDA5-005D6A8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D9A7-DAA8-4A3F-AEA7-18A6495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4BFB-DD7A-4AB4-9D71-15DA132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36BD-E3B8-427D-A56A-9B5C9C0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12F6-205A-4E08-ABBC-39411BFA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6FE5A-89F3-414D-AC78-D485E0DF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297-AFFC-431D-B9AD-4CF0805E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CE9-3092-400F-9343-9D33845F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787-4B9F-4591-883E-D24740D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C7D-596E-48B9-B9B9-629C605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DD8-E6F7-492C-8764-408F5E1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4400" y="-936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6230880" y="-9360"/>
            <a:ext cx="6773760" cy="9061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B165-2731-4B28-9431-9070437AA63C}" type="slidenum">
              <a:rPr b="0" lang="en-US" sz="1700" spc="-1" strike="noStrike">
                <a:solidFill>
                  <a:srgbClr val="045c75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7000" y="287280"/>
              <a:ext cx="13033080" cy="924120"/>
              <a:chOff x="-27000" y="287280"/>
              <a:chExt cx="13033080" cy="92412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0" y="287280"/>
                <a:ext cx="1300392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6640" y="68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880" y="354960"/>
              <a:ext cx="13051440" cy="795960"/>
              <a:chOff x="-20880" y="354960"/>
              <a:chExt cx="13051440" cy="79596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0" y="354960"/>
                <a:ext cx="1302696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520" y="745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4400" y="-936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230880" y="-9360"/>
            <a:ext cx="6773760" cy="9061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7000" y="287280"/>
              <a:ext cx="13033080" cy="924120"/>
              <a:chOff x="-27000" y="287280"/>
              <a:chExt cx="13033080" cy="92412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0" y="287280"/>
                <a:ext cx="1300392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6640" y="68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880" y="354960"/>
              <a:ext cx="13051440" cy="795960"/>
              <a:chOff x="-20880" y="354960"/>
              <a:chExt cx="13051440" cy="79596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0" y="354960"/>
                <a:ext cx="1302696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520" y="745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B05-97C0-49C0-B844-831E063D0785}" type="slidenum">
              <a:rPr b="0" lang="en-US" sz="1700" spc="-1" strike="noStrike">
                <a:solidFill>
                  <a:srgbClr val="d1eaee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4400" y="-936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6230880" y="-9360"/>
            <a:ext cx="6773760" cy="9061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7000" y="287280"/>
              <a:ext cx="13033080" cy="924120"/>
              <a:chOff x="-27000" y="287280"/>
              <a:chExt cx="13033080" cy="92412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0" y="287280"/>
                <a:ext cx="1300392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6640" y="68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880" y="354960"/>
              <a:ext cx="13051440" cy="795960"/>
              <a:chOff x="-20880" y="354960"/>
              <a:chExt cx="13051440" cy="79596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0" y="354960"/>
                <a:ext cx="13026960" cy="7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520" y="745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282c1e"/>
                  </a:solidFill>
                  <a:latin typeface="Opti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8B93-FF43-42E0-B2DF-89F6E28CF3A7}" type="slidenum">
              <a:rPr b="0" lang="en-US" sz="1700" spc="-1" strike="noStrike">
                <a:solidFill>
                  <a:srgbClr val="d1eaee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4502160" y="1575360"/>
            <a:ext cx="7478640" cy="585144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1383920" y="7622280"/>
            <a:ext cx="220680" cy="2210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4040" y="8272080"/>
            <a:ext cx="13033440" cy="14810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6230880" y="8845560"/>
            <a:ext cx="6773760" cy="9079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Optima"/>
              </a:rPr>
              <a:t>&lt;date/time&gt;</a:t>
            </a:r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1486880" y="9040680"/>
            <a:ext cx="866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Opti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3C5F-69CB-4FBE-8E4C-A681FF1500B9}" type="slidenum">
              <a:rPr b="0" lang="en-US" sz="1700" spc="-1" strike="noStrike">
                <a:solidFill>
                  <a:srgbClr val="045c75"/>
                </a:solidFill>
                <a:latin typeface="Optima"/>
              </a:rPr>
              <a:t>&lt;number&gt;</a:t>
            </a:fld>
            <a:endParaRPr b="0" lang="en-US" sz="17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617b"/>
                </a:solidFill>
                <a:latin typeface="Calibri"/>
              </a:rPr>
              <a:t>DISORDERS  OF THE THYROID GLAND</a:t>
            </a:r>
            <a:endParaRPr b="0" lang="en-US" sz="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DEVELOPMENT &amp; PHYSIOLOG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globulin synthesis : 4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tal bilobed-shaped thyroid : 7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id follicle cell and colloid formation :                   10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odine Trapping : 8-10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Hypothalamic neuron synthesis of 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3" marL="2297160" indent="-2984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H : 6-8 wee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2297160" indent="-2984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SH : 12 wee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3 &amp; T4 synthesis and secretion : 12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44440" y="152280"/>
            <a:ext cx="95756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RECEPTOR BLOCKING ANTIBODY (TRBAb) / Thyroid Binding Inhibitor I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Unusual cause; Transitor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ransplacental passage of maternal antibodies that inhibit the binding of TSH to its receptors in the neonat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mission in 3 month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IVE SYNTHESIS OF THYROX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 OF IODIDE TRANSPOR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PEROXIDASE DEFECTS OF ORGANIFICATION &amp; COUPLIN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S OF THYROGLOBULIN SYNTHE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ECTS OF DEIODINAT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DEFICIENC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44440" y="151920"/>
            <a:ext cx="9575640" cy="23115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42920" y="2336400"/>
            <a:ext cx="9575640" cy="6426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ADIOIOD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nadvertent administration during pregnancy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tal thyroid is capable of trapping iodide for 70-75 day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HORMONE UNRESPONSIVENES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sistance to TS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ow T4, elevated TSH, no response to exogenous TS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RELEASING HORMONE ABNORMALIT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HORMONE UNRESPONSIVENES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sistance to actions of exogenous and endogenous T3,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levated T4, T3, FT3, F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SH not suppresse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ODINE EXPOSUR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ODINE DEFICIENCY / ENDEMIC GOITER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common cause of congenital hypothyroidism worldwid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044440" y="2743200"/>
            <a:ext cx="9575640" cy="6578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3000"/>
          </a:bodyPr>
          <a:p>
            <a:pPr marL="686520" indent="-3618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Birth weight &amp; length are norma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tunted, extremities are shor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Head may be normal or slightly increased due to brain myxedema, widely open fontanel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ick, broad tongue ( open mouth ), delayed dentit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86520" indent="-3618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longed neonatal jaundic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58840" indent="-3261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Maybe the earliest sig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158840" indent="-3261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Delayed maturation of glucoronide matura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044440" y="2743200"/>
            <a:ext cx="9575640" cy="6146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eding Difficult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luggishness, lack of interest, somnolence, choking spells during feeding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spiratory Difficult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Large tongue, apneic episodes, noisy respiration, nasal obstru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nstipat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arge abdomen, umbilical herni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ubnormal temperature, dry, scaly skin, little swea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dema of the genitals and extremit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nemia refractory to hematinic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low pulse, ( + ) heart murmur, cardiomegaly, asymptomatic pericardial effus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oarse cry - myxedema of the vocal cord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hysical &amp; mental retardation increases with ag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nical picture fully developed in 3-6 month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ongenital Hypothyroidisn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0880" y="2752200"/>
            <a:ext cx="11702880" cy="6242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2768760" y="2666880"/>
            <a:ext cx="1701720" cy="2540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4"/>
          <a:stretch/>
        </p:blipFill>
        <p:spPr>
          <a:xfrm>
            <a:off x="1828800" y="53974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5"/>
          <a:stretch/>
        </p:blipFill>
        <p:spPr>
          <a:xfrm>
            <a:off x="7407360" y="2641680"/>
            <a:ext cx="3917880" cy="5842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2266920" y="8623440"/>
            <a:ext cx="31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tima"/>
              </a:rPr>
              <a:t>Before Treatment</a:t>
            </a: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642080" y="8623440"/>
            <a:ext cx="28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tima"/>
              </a:rPr>
              <a:t>After Treatment</a:t>
            </a:r>
            <a:endParaRPr b="0" lang="en-US" sz="30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BORATORY DIAGNOSI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044440" y="2742840"/>
            <a:ext cx="9575640" cy="6134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730800" indent="-38520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rum T4 is low, T3 is norma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levated TSH - primary thyroid defec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layed skeletal age &amp; dental ag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ardiac enlargement or pericardial effus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adionuclide scannin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33720" indent="-347400">
              <a:lnSpc>
                <a:spcPct val="90000"/>
              </a:lnSpc>
              <a:spcBef>
                <a:spcPts val="1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monstrate ectopic thyroid tissue or aplasi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0800" indent="-38520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levated cholesterol levels ( &gt; 2 years old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44440" y="2565360"/>
            <a:ext cx="9575640" cy="6184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381240">
              <a:lnSpc>
                <a:spcPct val="9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IN FUNCTION : to synthesize T3 and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lnSpc>
                <a:spcPct val="90000"/>
              </a:lnSpc>
              <a:spcBef>
                <a:spcPts val="1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ncentrates iodide from the blood &amp; to return it to the peripheral tissues in a hormonally active for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lnSpc>
                <a:spcPct val="90000"/>
              </a:lnSpc>
              <a:spcBef>
                <a:spcPts val="1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nly known physiologic role of Iodine is in the synthesis of T3 &amp;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lnSpc>
                <a:spcPct val="90000"/>
              </a:lnSpc>
              <a:spcBef>
                <a:spcPts val="1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DA of Iodine 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lnSpc>
                <a:spcPct val="90000"/>
              </a:lnSpc>
              <a:spcBef>
                <a:spcPts val="1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Infants : &gt; 30 ug/kg/day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lnSpc>
                <a:spcPct val="90000"/>
              </a:lnSpc>
              <a:spcBef>
                <a:spcPts val="1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Children : 70-120 ug/day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lnSpc>
                <a:spcPct val="90000"/>
              </a:lnSpc>
              <a:spcBef>
                <a:spcPts val="1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dolescents &amp; Adults : 150 ug/day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ODIUM-L-THYROX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rug of choice; given orally 30 minutes before meals, NOT with soya or ir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OSE: 10-15 ug/k/day ( neonates ) ;                     4ug/k/day ( children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DE EFFECTS: dose relate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seudotumor cerebri- within 4 months of Tx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Risk of craniosynostosis &amp; temperament problems                      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GNOSIS OF CONGENITAL HYPO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4000"/>
          </a:bodyPr>
          <a:p>
            <a:pPr marL="693720" indent="-3657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mproved detection following screening program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93720" indent="-3657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arly diagnosis and adequate treatment from the first weeks of life result in NORMAL LINEAR GROWTH &amp; INTELLIGENCE comparable to normal sibling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93720" indent="-3657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Without Treatment : MENTALLY DEFICIENT DWARF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93720" indent="-3657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lay in diagnosis, inadequate treatment, poor compliance in the first 2-3 years of life result in variable degrees of brain damag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5000"/>
          </a:bodyPr>
          <a:p>
            <a:pPr marL="701280" indent="-3693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UTOIMMUNE THYOIDITIS / HASHIMOTO’S THYROIDITIS, LYMPHOCYTIC THYROIDIT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common cause of thyroid disease in children &amp; adolescent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common cause of acquired hypo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or may not have a goit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RGAN SPECIFIC - thyroid peroxidase autoantibodi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83680" indent="-333360">
              <a:spcBef>
                <a:spcPts val="18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4-7x more frequent in females, &gt; after 6 years, peak during adolescenc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ASHIMOTO’S THYROIDIT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Growth retardation &amp; Goiter are the most common clinical manifestation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are clinically euthyroid &amp; asymptomatic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finitive Diagnosis : thyroid biops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id function test often normal, TSH maybe elevate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5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REATMENT: Sodium-L-Thyroxine replacement   ( 50-150 ug daily ) if with hypo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UBTOTAL THYROIDECTOM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RRADIAT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ROTRACTED INGESTION OF MEDICATIONS CONTAINING IODIDES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miodaron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usually with a goit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716040" indent="-3772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NICAL MANIFESTATIONS: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celeration of growth - first clinical manifestat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Goit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yxedematous skin chang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nstipation, cold intolerance, increased need for sleep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layed osseous maturation ( indicates duration of hypothyroidism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ecocious puberty or delayed pubert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08880" indent="-3402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chool work DOES NOT suff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ACQUIRED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ROGNO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ll changes revert to normal following adequate replacement of thyroxin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17b"/>
                </a:solidFill>
                <a:latin typeface="Calibri"/>
              </a:rPr>
              <a:t>HYPERTHYROIDISM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esults from excessive secretion of thyroid hormo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ay also be due to excessive TSH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 only a few exceptions, this is due to DIFFUSED TOXIC GOITER ( GRAVE’S DISEASE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44440" y="2743200"/>
            <a:ext cx="9575640" cy="612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ypermetabolis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Weight loss, muscle atrophy, heat intolerance, increased appetit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creased mentat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nhanced epinephrine effect ( tremors &amp; anxiety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Lid lag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Osteoporo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STOR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dreaded problem; acute onse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hyperthermia, severe tachycardia &amp; restlessness rapidly progress to delirium, coma, deat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be precipitated by physiologic stresso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RIIODOTHYRONINE ( T3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etabolic potency is 3-4x that of T4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nly 20% of circulating T3 is secreted by the thyroid &amp; the remainder is produced by deiodination of T4 in the liver, kidney &amp; other peripheral tissues by deiodinas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pproximately 50% circulating T3 is bound to TBG, 50% albumin-bound, 0.03% is fre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VE’S DISEASE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nlargement of the thymus, spleen, lymph nodes, thyroid, due to infiltration by lymphocytes &amp; plasma cells; retro-orbital tissues also infiltrated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uto-immune disorder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TROPIN RECEPTOR STIMULATING ANTIBODY ( TRS Ab ) - binds to TSH receptors &amp; stimulates cAMP production; effect analogous to TSH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EAK INCIDENCE : adolescence, 5x &gt; girl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GRAVE’S DISE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044440" y="2311200"/>
            <a:ext cx="9575640" cy="6794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2000"/>
          </a:bodyPr>
          <a:p>
            <a:pPr marL="678960" indent="-3578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motional disturbance &amp; motor hyperactivity ( Earliest signs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hort attention span - school work suffe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ervousness, Tremo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ncreased appetite with loss or no weight gai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achycardia, palpitations, dyspnea, cardiomegaly ( MR, atrial fib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Increased pulse pressure , increased systolic BP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ptosis or Exopthalmu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146600" indent="-322920">
              <a:lnSpc>
                <a:spcPct val="8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Lagging of downward glance, retraction of upper lid, impaired convergence, infrequent blinking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678960" indent="-35784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mooth, flushed skin with excessive sweating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MANIFESTATIONS OF GRAVE’S DISE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41120" y="2273400"/>
            <a:ext cx="9093240" cy="1511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ommon Symptoms &amp; Signs of Grave’s Disease in 290 Children and Adolescents ( Percentage affected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1650960" y="3441600"/>
          <a:ext cx="904248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0960" y="3441600"/>
                    <a:ext cx="90424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965160" y="8807400"/>
            <a:ext cx="1083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Clayton GW, Thyrotoxicosis in Children, Clinical Pediatric &amp; Adolescent Endocrinology, 1982</a:t>
            </a:r>
            <a:endParaRPr b="0" lang="en-US" sz="2000" spc="-1" strike="noStrike">
              <a:solidFill>
                <a:srgbClr val="282c1e"/>
              </a:solidFill>
              <a:latin typeface="Opti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BORATORY DIAGNOSIS OF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levated T3, T4, FT3, FT4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Low TSH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( + ) TRSAb - the disappearance predicts remiss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EDICAL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ONAMIDE DRUGS - drugs of choic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pylthiouracil ( PTU ) / Methimazol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hibits incorporation of trapped inorganic iodides into organic compound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uppresses levels of TRSAb by directly affecting intrathyroid immunit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044440" y="698400"/>
            <a:ext cx="9575640" cy="7886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ONAMIDE DRUG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PYLTHIOURACIL ( PTU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locks organification of iodide and peripheral conversion of T4 to T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Effective for neonatal thyrotoxicosi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DOSE : 5-10 mg/kg/da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ETHIMAZOLE ( TAPAZOLE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locks organification of iodid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0x more potent than PTU, longer half-lif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11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DOSE : 0.25-1.0 mg/ kg /day OD or BI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044440" y="1054080"/>
            <a:ext cx="9575640" cy="7531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ONAMIDE DRUG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linical response : 2-3 week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dequate control : 1 - 3 month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REATMENT DURATION : 5 years or longer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MISSION RATE :  25% every 2 year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PROPANOLO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ecreased adrenergic component of thyrotoxicosi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impair peripheral T4 conversion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OES NOT alter thyroid function or exopthalmu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DE EFFECTS: bradycardia, hypotension, hypoglycemi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2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DOSE : 0.5 - 2 mg /kg / day TI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RADIOIODIN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Effective, relatively saf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ull effects only in 2-3 month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DE EFFECTS: Radiation oncogenesis &amp; genetic damage, benign adenoma, hypothyroidism ( 10-20%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044440" y="2743200"/>
            <a:ext cx="95756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2919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. SURGICA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>
              <a:spcBef>
                <a:spcPts val="28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UBTOTAL THYROIDECTOMY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28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erformed only in euthyroid stat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28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onamides given over 2-3 months prior to surger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771560" indent="-350640">
              <a:spcBef>
                <a:spcPts val="28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OMPLICATIONS - rar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2297160" indent="-298440">
              <a:spcBef>
                <a:spcPts val="28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ypoparathyroidism, vocal cord paralysis, hypothyroidism in &gt; 50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XINE ( T4 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re abundant but binds weakly to nuclear receptor and most of its physiologic effects occur by conversion to T3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70% of circulating T4 is firmly bound to TBG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nly 0.03% of T4 in serum is not bound &amp; comprises free thyroxine ( FT4 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 OPTIONS FOR HYPERTHYROID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RE OPHTHALMOPATH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ay require treatment with prednison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emits independently if hyper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4617b"/>
                </a:solidFill>
                <a:latin typeface="Calibri"/>
              </a:rPr>
              <a:t>PREDICTORS OF EARLY REMISSIONS</a:t>
            </a:r>
            <a:endParaRPr b="0" lang="en-US" sz="6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&gt; 13 years old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al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higher BMI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mall goiter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odestly elevated T3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THYROID PHYSIOLOGY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44440" y="2362320"/>
            <a:ext cx="9575640" cy="6819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38124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yroid function is regulated by the TSH which is secreted by the anterior pituitary which activates adenylcyclase in the thyroid gland to effect the release of thyroid hormone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23240" indent="-38124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TEPS IN THYROID SYNTHESIS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Iodide Pump : RATE LIMITING STEP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Iodide oxidation to iodine and organifica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Coupling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Deiodina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1221120" indent="-343800">
              <a:spcBef>
                <a:spcPts val="1199"/>
              </a:spcBef>
              <a:buClr>
                <a:srgbClr val="0f6fc6"/>
              </a:buClr>
              <a:buSzPct val="99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Thyroid Hormone secre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44440" y="558720"/>
            <a:ext cx="9575640" cy="176544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4617b"/>
                </a:solidFill>
                <a:latin typeface="Calibri"/>
              </a:rPr>
              <a:t>Hypothyroidism</a:t>
            </a:r>
            <a:endParaRPr b="0" lang="en-US" sz="6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ficient production of thyroid hormone or a defect in thyroid hormonal receptor activity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ONGENITAL HYPOTHYROIDIS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CQUIRED HYPOTHYROIDIS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ONGENITAL HYPOTHYROIDISM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Maybe sporadic or familial, goitrous or non-goitrou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re deficiency : manifestations develop in early week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Lesser degree of deficiency : manifestations delayed for months to year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44440" y="152280"/>
            <a:ext cx="95756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YROID DYSGENESI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emales 2:1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Accounts for 90% of infants with hypothyroidism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Most are asymptomatic at birt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ow serum T4 and high TSH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44440" y="152280"/>
            <a:ext cx="95756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ETIOLOGY OF CONGENITAL HYPOTHYROIDISM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738360" indent="-38916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ECTOPIC THYROID TISSU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Lingual, sublingual, subhyoi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Provide adequate amounts of thyroid hormone for many years or may fail in early childhood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1246320" indent="-3510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occasionally associated with thyroglossal duct cy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Francisco</cp:lastModifiedBy>
  <dcterms:modified xsi:type="dcterms:W3CDTF">2010-10-26T22:02:26Z</dcterms:modified>
  <cp:revision>5</cp:revision>
  <dc:subject/>
  <dc:title>Pediatric Endocrinology</dc:title>
</cp:coreProperties>
</file>