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ti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2c1e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0CD-3D23-4F1B-AA94-C9AD14746AD5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F094-E2CE-4458-81B4-53BC4C99F564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EDC-DA08-4F93-8A40-9E17FB4278E8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ABD9-97C6-472C-BF24-05805F4118D0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2C7-159F-4F27-B381-EAE7C280F0B0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B905-F9E0-4511-9626-81597DA7E9AC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B74-0922-4944-AED2-592BD40B3A8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A0FF-881E-4228-8F1F-0B72655FB43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E8E5-01DA-40FA-BA70-FD99ED390F98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9B76-65E3-4240-95BF-E7B4FD8972F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06E-AC3B-486E-BDAF-D0182E480DF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E9B-4461-4BEF-9540-FCEE061E95E5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754-0BFA-464A-BD6D-9AB6478ACBBD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F47-BA3E-489D-A6CE-2BF60374C1A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B440-4106-4B16-8051-29970B2340E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C4A5-54DB-40E7-8345-F391B109FA9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BDC-C89B-4A0E-8CAB-CBBB304994C3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DE6-B841-4E00-BAE9-38A91ADBCB68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0AEF-027A-4524-A28A-49D86FA11360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966-09EB-4D6E-8FC8-8A881A93802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3C6-A364-4C6C-95A6-5FCABF81A5A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A9CD-ADD5-485B-B134-7CFCB167915D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2C2-4AB9-409D-AA69-83CEF2679DD3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8997-1974-4507-ADA6-0067914B2BC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BAC4-C15E-4D82-9D6B-7B2BF7EAFEC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3F7-3365-41BE-AFEA-B352E6454A8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B73-43E8-45E6-A2A2-AE9E0378D6FC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544-6FB6-4C0E-A6BC-D124A70CD10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C7C-601F-4AAC-BE1F-98033812D42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9094-5570-4862-A5DD-29F9332C8BA7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6CC5-B4D0-43C7-AE64-41C2B378D128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F60-9872-4731-8F60-94335D5D082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803-9159-4805-A135-FC42BA9E0FAE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2A4-E1F6-448D-A4D9-4B78D90B8DC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6EFC-11B8-40DB-A34E-BEDA0A58050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23F-F9C3-4736-9044-A576D0B1A194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50D5-07EC-4685-A256-9B74620DE124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4757-8F09-4C69-99EB-E31A4785221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618C-1DEC-443E-8EDF-11C044415BF7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148-46B1-459B-8904-DA11BC8B921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505-45C7-4092-ACF1-9F840A4B3F67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42C2-EA74-49CA-8F84-709EE65B6BF5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ED0-7B10-470F-B6AC-C2357999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B46-B147-4591-9BEE-5EFE93D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631-EA4F-4476-8277-C4807621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0E8-D411-4C04-9D66-A6D0E2C9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BCF2-2477-4D10-803D-C612C1D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2B50-AEC7-487D-AF5E-9D5C8F37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FAC-8A50-4CDD-95DD-F7566F8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1296-EF24-46C4-ADBF-3EDB05B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995C-D388-4F8B-AE69-0533B0E4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2158-8A3C-4B50-9D3D-ED838018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D502-3331-47B9-B811-F24B39F6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106-24EE-43DC-B748-25162F4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DE5-B0EB-4D7E-9A2E-6AC236D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A7B3-321C-4308-9D4E-88237C3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0E1-81CE-400C-AA3A-8D450AE1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05A6-77DB-4B5A-8C8B-712BD86E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51B9-62B5-42B5-8105-B0A7387D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4040-E0AA-4C6D-880C-01EF1EE1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4DFC-4D19-4AEF-A618-46885BB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D54C-5AEA-4AFE-ADF7-6A79B9D8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9399-1633-44CE-8DF9-00EC84F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7ED4-01FF-4541-BC82-47BF647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BA9-D852-4019-ABF7-6C0D603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32DB-5314-4441-8C70-2BA2BCD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D59C-762A-466C-84A9-7B5ACA2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58CF-715F-4A17-B27C-F1D8469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41C2-DC1E-488F-99CF-6BACAFF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F394-57BC-4F92-B18F-77E4D163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3345-1F18-4FA5-9F69-322D8EFE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F938-02F2-4FE3-B7A4-288F3877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4182-F963-4CE9-B8DA-B324170C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5C21-7E18-43CF-86E2-5157627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97D6-4D9E-432B-A6EA-E880DF2B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7E2-E66C-4024-A650-9A5BB4E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AE58-3D52-45D0-BDD3-3B78C529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947C-A55F-42C8-8564-0B113DAE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D2BB-C5D8-49E4-8814-7F710CD4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6A72-8A98-418F-B154-CF8DE10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3887-472B-442A-96A0-5D14C15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8543-19E2-4C29-9E1B-0174498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031A-9635-4F63-BA2D-FABC4AB7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3783-1A3D-4355-9890-40797F50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817D-EF42-4967-BCF5-B21B6E6B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9E7-7C79-463C-BC46-C496348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116-2606-47F2-994A-03FA8CE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FA4-F794-4D88-8F54-19DF2901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E57-7B20-4D81-A35B-88B3F42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244-372B-43AE-9B52-8BDE93C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4400" y="-936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6230880" y="-9360"/>
            <a:ext cx="6773760" cy="9061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4F4-9C44-483D-8163-31522A8430AC}" type="slidenum">
              <a:rPr b="0" lang="en-US" sz="1700" spc="-1" strike="noStrike">
                <a:solidFill>
                  <a:srgbClr val="045c75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7000" y="287280"/>
              <a:ext cx="13033080" cy="924120"/>
              <a:chOff x="-27000" y="287280"/>
              <a:chExt cx="13033080" cy="9241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0" y="287280"/>
                <a:ext cx="1300392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6640" y="68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880" y="354960"/>
              <a:ext cx="13051440" cy="795960"/>
              <a:chOff x="-20880" y="354960"/>
              <a:chExt cx="13051440" cy="79596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0" y="354960"/>
                <a:ext cx="1302696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520" y="745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4400" y="-936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230880" y="-9360"/>
            <a:ext cx="6773760" cy="9061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7000" y="287280"/>
              <a:ext cx="13033080" cy="924120"/>
              <a:chOff x="-27000" y="287280"/>
              <a:chExt cx="13033080" cy="9241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0" y="287280"/>
                <a:ext cx="1300392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6640" y="68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880" y="354960"/>
              <a:ext cx="13051440" cy="795960"/>
              <a:chOff x="-20880" y="354960"/>
              <a:chExt cx="13051440" cy="79596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0" y="354960"/>
                <a:ext cx="1302696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520" y="745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79E9-BDF8-4C07-8231-40C511F52BF1}" type="slidenum">
              <a:rPr b="0" lang="en-US" sz="1700" spc="-1" strike="noStrike">
                <a:solidFill>
                  <a:srgbClr val="d1eaee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4400" y="-936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6230880" y="-9360"/>
            <a:ext cx="6773760" cy="9061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7000" y="287280"/>
              <a:ext cx="13033080" cy="924120"/>
              <a:chOff x="-27000" y="287280"/>
              <a:chExt cx="13033080" cy="9241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0" y="287280"/>
                <a:ext cx="1300392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6640" y="68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880" y="354960"/>
              <a:ext cx="13051440" cy="795960"/>
              <a:chOff x="-20880" y="354960"/>
              <a:chExt cx="13051440" cy="79596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0" y="354960"/>
                <a:ext cx="1302696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520" y="745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A516-DEB4-4622-BAF5-A5EE222D2921}" type="slidenum">
              <a:rPr b="0" lang="en-US" sz="1700" spc="-1" strike="noStrike">
                <a:solidFill>
                  <a:srgbClr val="d1eaee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4502160" y="1575360"/>
            <a:ext cx="7478640" cy="585144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1383920" y="7622280"/>
            <a:ext cx="220680" cy="2210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4040" y="827208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6230880" y="8845560"/>
            <a:ext cx="6773760" cy="9079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1486880" y="9040680"/>
            <a:ext cx="866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EC21-9CF5-4C2B-98E8-8F510EC94D13}" type="slidenum">
              <a:rPr b="0" lang="en-US" sz="1700" spc="-1" strike="noStrike">
                <a:solidFill>
                  <a:srgbClr val="045c75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617b"/>
                </a:solidFill>
                <a:latin typeface="Calibri"/>
              </a:rPr>
              <a:t>DISORDERS  OF THE THYROID GLAND</a:t>
            </a:r>
            <a:endParaRPr b="0" lang="en-US" sz="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DEVELOPMENT &amp; PHYSIOLOG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globulin synthesis : 4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tal bilobed-shaped thyroid : 7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id follicle cell and colloid formation :                   10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odine Trapping : 8-10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Hypothalamic neuron synthesis of 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2297160" indent="-2984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H : 6-8 wee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2297160" indent="-2984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SH : 12 wee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3 &amp; T4 synthesis and secretion : 12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44440" y="152280"/>
            <a:ext cx="95756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RECEPTOR BLOCKING ANTIBODY (TRBAb) / Thyroid Binding Inhibitor I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Unusual cause; Transitor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ransplacental passage of maternal antibodies that inhibit the binding of TSH to its receptors in the neonat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mission in 3 month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IVE SYNTHESIS OF THYROX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 OF IODIDE TRANSPOR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PEROXIDASE DEFECTS OF ORGANIFICATION &amp; COUPLIN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S OF THYROGLOBULIN SYNTHE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S OF DEIODINAT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DEFICIENC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44440" y="151920"/>
            <a:ext cx="9575640" cy="23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42920" y="2336400"/>
            <a:ext cx="9575640" cy="6426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ADIOIOD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nadvertent administration during pregnancy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tal thyroid is capable of trapping iodide for 70-75 day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HORMONE UNRESPONSIVENES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sistance to TS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ow T4, elevated TSH, no response to exogenous TS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RELEASING HORMONE ABNORMALIT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HORMONE UNRESPONSIVENES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sistance to actions of exogenous and endogenous T3,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levated T4, T3, FT3, F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SH not suppresse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ODINE EXPOSUR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ODINE DEFICIENCY / ENDEMIC GOITER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common cause of congenital hypothyroidism worldwid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044440" y="2743200"/>
            <a:ext cx="9575640" cy="6578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3000"/>
          </a:bodyPr>
          <a:p>
            <a:pPr marL="686520" indent="-3618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Birth weight &amp; length are norma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tunted, extremities are shor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Head may be normal or slightly increased due to brain myxedema, widely open fontanel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ck, broad tongue ( open mouth ), delayed dentit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longed neonatal jaundic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58840" indent="-3261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Maybe the earliest sig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158840" indent="-3261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elayed maturation of glucoronide matura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044440" y="2743200"/>
            <a:ext cx="9575640" cy="6146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eding Difficult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luggishness, lack of interest, somnolence, choking spells during feeding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spiratory Difficult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Large tongue, apneic episodes, noisy respiration, nasal obstru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nstipat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arge abdomen, umbilical herni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ubnormal temperature, dry, scaly skin, little swe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dema of the genitals and extremit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nemia refractory to hematinic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low pulse, ( + ) heart murmur, cardiomegaly, asymptomatic pericardial effus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oarse cry - myxedema of the vocal cord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hysical &amp; mental retardation increases with ag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nical picture fully developed in 3-6 month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ongenital Hypothyroidisn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0880" y="2752200"/>
            <a:ext cx="11702880" cy="6242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2768760" y="2666880"/>
            <a:ext cx="1701720" cy="254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4"/>
          <a:stretch/>
        </p:blipFill>
        <p:spPr>
          <a:xfrm>
            <a:off x="1828800" y="5397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5"/>
          <a:stretch/>
        </p:blipFill>
        <p:spPr>
          <a:xfrm>
            <a:off x="7407360" y="2641680"/>
            <a:ext cx="3917880" cy="5842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2266920" y="8623440"/>
            <a:ext cx="31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</a:rPr>
              <a:t>Before Treatment</a:t>
            </a: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642080" y="8623440"/>
            <a:ext cx="28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</a:rPr>
              <a:t>After Treatment</a:t>
            </a: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BORATORY DIAGNOSI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044440" y="2742840"/>
            <a:ext cx="9575640" cy="6134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730800" indent="-38520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rum T4 is low, T3 is norma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levated TSH - primary thyroid defec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layed skeletal age &amp; dental ag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ardiac enlargement or pericardial effus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adionuclide scannin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33720" indent="-347400">
              <a:lnSpc>
                <a:spcPct val="90000"/>
              </a:lnSpc>
              <a:spcBef>
                <a:spcPts val="1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monstrate ectopic thyroid tissue or aplasi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levated cholesterol levels ( &gt; 2 years old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44440" y="2565360"/>
            <a:ext cx="9575640" cy="6184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381240">
              <a:lnSpc>
                <a:spcPct val="9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IN FUNCTION : to synthesize T3 and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lnSpc>
                <a:spcPct val="90000"/>
              </a:lnSpc>
              <a:spcBef>
                <a:spcPts val="1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ncentrates iodide from the blood &amp; to return it to the peripheral tissues in a hormonally active for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lnSpc>
                <a:spcPct val="90000"/>
              </a:lnSpc>
              <a:spcBef>
                <a:spcPts val="1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nly known physiologic role of Iodine is in the synthesis of T3 &amp;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lnSpc>
                <a:spcPct val="90000"/>
              </a:lnSpc>
              <a:spcBef>
                <a:spcPts val="1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DA of Iodine 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lnSpc>
                <a:spcPct val="90000"/>
              </a:lnSpc>
              <a:spcBef>
                <a:spcPts val="1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Infants : &gt; 30 ug/kg/day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lnSpc>
                <a:spcPct val="90000"/>
              </a:lnSpc>
              <a:spcBef>
                <a:spcPts val="1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hildren : 70-120 ug/day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lnSpc>
                <a:spcPct val="90000"/>
              </a:lnSpc>
              <a:spcBef>
                <a:spcPts val="1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dolescents &amp; Adults : 150 ug/day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ODIUM-L-THYROX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rug of choice; given orally 30 minutes before meals, NOT with soya or ir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OSE: 10-15 ug/k/day ( neonates ) ;                     4ug/k/day ( children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DE EFFECTS: dose relate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seudotumor cerebri- within 4 months of Tx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Risk of craniosynostosis &amp; temperament problems                      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GNOSI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4000"/>
          </a:bodyPr>
          <a:p>
            <a:pPr marL="693720" indent="-3657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mproved detection following screening program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93720" indent="-3657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arly diagnosis and adequate treatment from the first weeks of life result in NORMAL LINEAR GROWTH &amp; INTELLIGENCE comparable to normal sibling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93720" indent="-3657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Without Treatment : MENTALLY DEFICIENT DWARF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93720" indent="-3657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lay in diagnosis, inadequate treatment, poor compliance in the first 2-3 years of life result in variable degrees of brain damag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5000"/>
          </a:bodyPr>
          <a:p>
            <a:pPr marL="701280" indent="-3693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UTOIMMUNE THYOIDITIS / HASHIMOTO’S THYROIDITIS, LYMPHOCYTIC THYROIDIT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common cause of thyroid disease in children &amp; adolescent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common cause of acquired hypo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or may not have a goit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RGAN SPECIFIC - thyroid peroxidase autoantibod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4-7x more frequent in females, &gt; after 6 years, peak during adolescenc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ASHIMOTO’S THYROIDIT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Growth retardation &amp; Goiter are the most common clinical manifestation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are clinically euthyroid &amp; asymptomatic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finitive Diagnosis : thyroid biops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id function test often normal, TSH maybe elevate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REATMENT: Sodium-L-Thyroxine replacement   ( 50-150 ug daily ) if with hypo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UBTOTAL THYROIDECTOM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RRADIAT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ROTRACTED INGESTION OF MEDICATIONS CONTAINING IODIDES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miodaron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usually with a goit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716040" indent="-3772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NICAL MANIFESTATIONS: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celeration of growth - first clinical manifestat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Goit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yxedematous skin chang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nstipation, cold intolerance, increased need for sleep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layed osseous maturation ( indicates duration of hypothyroidism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ecocious puberty or delayed pubert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chool work DOES NOT suff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ROGNO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ll changes revert to normal following adequate replacement of thyroxin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17b"/>
                </a:solidFill>
                <a:latin typeface="Calibri"/>
              </a:rPr>
              <a:t>HYPERTHYROIDISM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esults from excessive secretion of thyroid hormo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ay also be due to excessive TSH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 only a few exceptions, this is due to DIFFUSED TOXIC GOITER ( GRAVE’S DISEASE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44440" y="2743200"/>
            <a:ext cx="9575640" cy="612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ypermetabolis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Weight loss, muscle atrophy, heat intolerance, increased appetit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creased mentat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nhanced epinephrine effect ( tremors &amp; anxiety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Lid la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Osteoporo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STOR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dreaded problem; acute onse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hyperthermia, severe tachycardia &amp; restlessness rapidly progress to delirium, coma, deat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be precipitated by physiologic stresso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RIIODOTHYRONINE ( T3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etabolic potency is 3-4x that of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nly 20% of circulating T3 is secreted by the thyroid &amp; the remainder is produced by deiodination of T4 in the liver, kidney &amp; other peripheral tissues by deiodinas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pproximately 50% circulating T3 is bound to TBG, 50% albumin-bound, 0.03% is fre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VE’S DISEASE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nlargement of the thymus, spleen, lymph nodes, thyroid, due to infiltration by lymphocytes &amp; plasma cells; retro-orbital tissues also infiltrated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uto-immune disorder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RECEPTOR STIMULATING ANTIBODY ( TRS Ab ) - binds to TSH receptors &amp; stimulates cAMP production; effect analogous to TSH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EAK INCIDENCE : adolescence, 5x &gt; girl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GRAVE’S 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044440" y="2311200"/>
            <a:ext cx="9575640" cy="6794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2000"/>
          </a:bodyPr>
          <a:p>
            <a:pPr marL="678960" indent="-3578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motional disturbance &amp; motor hyperactivity ( Earliest signs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hort attention span - school work suffe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ervousness, Tremo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ncreased appetite with loss or no weight gai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achycardia, palpitations, dyspnea, cardiomegaly ( MR, atrial fib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ncreased pulse pressure , increased systolic BP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ptosis or Exopthalmu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46600" indent="-322920">
              <a:lnSpc>
                <a:spcPct val="8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Lagging of downward glance, retraction of upper lid, impaired convergence, infrequent blinking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mooth, flushed skin with excessive sweating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GRAVE’S 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41120" y="2273400"/>
            <a:ext cx="9093240" cy="1511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mmon Symptoms &amp; Signs of Grave’s Disease in 290 Children and Adolescents ( Percentage affected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1650960" y="3441600"/>
          <a:ext cx="904248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0960" y="3441600"/>
                    <a:ext cx="90424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965160" y="8807400"/>
            <a:ext cx="1083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Clayton GW, Thyrotoxicosis in Children, Clinical Pediatric &amp; Adolescent Endocrinology, 1982</a:t>
            </a:r>
            <a:endParaRPr b="0" lang="en-US" sz="20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BORATORY DIAGNOSIS OF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levated T3, T4, FT3, FT4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Low TSH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( + ) TRSAb - the disappearance predicts remiss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EDICAL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ONAMIDE DRUGS - drugs of choic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pylthiouracil ( PTU ) / Methimazol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hibits incorporation of trapped inorganic iodides into organic compound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uppresses levels of TRSAb by directly affecting intrathyroid immunit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044440" y="698400"/>
            <a:ext cx="9575640" cy="7886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ONAMIDE DRUG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PYLTHIOURACIL ( PTU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locks organification of iodide and peripheral conversion of T4 to T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Effective for neonatal thyrotoxicosi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DOSE : 5-10 mg/kg/da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ETHIMAZOLE ( TAPAZOLE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locks organification of iodi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0x more potent than PTU, longer half-lif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DOSE : 0.25-1.0 mg/ kg /day OD or BI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044440" y="1054080"/>
            <a:ext cx="9575640" cy="7531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ONAMIDE DRUG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nical response : 2-3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dequate control : 1 - 3 month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REATMENT DURATION : 5 years or long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MISSION RATE :  25% every 2 yea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ROPANOLO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creased adrenergic component of thyrotoxicosi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impair peripheral T4 convers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OES NOT alter thyroid function or exopthalmu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DE EFFECTS: bradycardia, hypotension, hypoglycemi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OSE : 0.5 - 2 mg /kg / day TI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ADIOIOD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ffective, relatively saf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ull effects only in 2-3 month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DE EFFECTS: Radiation oncogenesis &amp; genetic damage, benign adenoma, hypothyroidism ( 10-20%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44440" y="2743200"/>
            <a:ext cx="95756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. SURGICA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>
              <a:spcBef>
                <a:spcPts val="28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UBTOTAL THYROIDECTOM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28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erformed only in euthyroid stat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28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onamides given over 2-3 months prior to surger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28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OMPLICATIONS - rar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2297160" indent="-298440">
              <a:spcBef>
                <a:spcPts val="28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poparathyroidism, vocal cord paralysis, hypothyroidism in &gt; 50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XINE ( T4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re abundant but binds weakly to nuclear receptor and most of its physiologic effects occur by conversion to T3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70% of circulating T4 is firmly bound to TBG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nly 0.03% of T4 in serum is not bound &amp; comprises free thyroxine ( FT4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RE OPHTHALMOPATH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require treatment with prednison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mits independently if hyper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617b"/>
                </a:solidFill>
                <a:latin typeface="Calibri"/>
              </a:rPr>
              <a:t>PREDICTORS OF EARLY REMISSIONS</a:t>
            </a:r>
            <a:endParaRPr b="0" lang="en-US" sz="6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&gt; 13 years old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al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igher BMI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mall goiter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odestly elevated T3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44440" y="2362320"/>
            <a:ext cx="9575640" cy="6819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38124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id function is regulated by the TSH which is secreted by the anterior pituitary which activates adenylcyclase in the thyroid gland to effect the release of thyroid hormone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TEPS IN THYROID SYNTHESIS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Iodide Pump : RATE LIMITING STEP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Iodide oxidation to iodine and organifica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oupling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eiodina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Thyroid Hormone secre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44440" y="558720"/>
            <a:ext cx="9575640" cy="176544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Hypothyroidism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icient production of thyroid hormone or a defect in thyroid hormonal receptor activit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ONGENITAL HYPOTHYROIDIS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CQUIRED HYPOTHYROIDIS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ONGENITAL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aybe sporadic or familial, goitrous or non-goitrou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re deficiency : manifestations develop in early week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Lesser degree of deficiency : manifestations delayed for months to year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44440" y="152280"/>
            <a:ext cx="95756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DYSGENE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males 2:1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ccounts for 90% of infants with hypo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are asymptomatic at birt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ow serum T4 and high TS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44440" y="152280"/>
            <a:ext cx="95756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CTOPIC THYROID TISSU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ingual, sublingual, subhyoi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vide adequate amounts of thyroid hormone for many years or may fail in early childhoo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ccasionally associated with thyroglossal duct cy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rancisco</cp:lastModifiedBy>
  <dcterms:modified xsi:type="dcterms:W3CDTF">2010-10-26T22:02:26Z</dcterms:modified>
  <cp:revision>5</cp:revision>
  <dc:subject/>
  <dc:title>Pediatric Endocrinology</dc:title>
</cp:coreProperties>
</file>