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3A19-9AAD-4863-B9CD-6FCADCF9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387-FFE2-4C87-8748-9E105A08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EC55-91B1-4D54-9102-6E06952D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F7B-0614-45F9-B0A8-9426EF7E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9BF0-7641-4E90-8C55-79E928A5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A54-78E1-4525-8336-7414E944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037-D983-46F9-B814-3B2CD2E0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FCF-052F-4108-B0F5-1EEE693F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68B-98DB-484E-9FA7-BF403E0E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2C8-F93D-4B21-BD9A-A2416C40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89DC-BFDA-4EEB-848C-7DBCD20B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F7F-B18D-4BFA-B8CF-CBC3754F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42717-767D-45A1-A3C3-55699BBEEA6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8:25:28Z</dcterms:created>
  <dc:creator>최봉수</dc:creator>
  <dc:description/>
  <dc:language>en-US</dc:language>
  <cp:lastModifiedBy>맛있다 군만두</cp:lastModifiedBy>
  <dcterms:modified xsi:type="dcterms:W3CDTF">2024-09-24T08:26:57Z</dcterms:modified>
  <cp:revision>3</cp:revision>
  <dc:subject/>
  <dc:title>슬라이드 1</dc:title>
</cp:coreProperties>
</file>