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669-A947-4534-A488-87F1D3C4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117-5FC9-48B6-AC92-1D0EE30B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2C51-5EDC-4252-94D5-B577D509B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3A1-9596-4EDB-ADAE-53B7C92C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1C1-E118-4C7C-B2DF-B0329FBF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6A4-90E4-4D4C-B825-6BC2B04A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D73-D109-45F0-A445-BB01C471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51CF-FA91-4A00-83F6-DFF5B241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38E-EDFC-4D1C-8C32-D464C846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95F-09AB-4915-BCD8-1A47657C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3A8-30AE-4A64-919F-12B08C0F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86F-343A-4638-BDBC-0BF91827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191C8-B7B0-48DC-85BD-C7AC183BE49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8:25:28Z</dcterms:created>
  <dc:creator>최봉수</dc:creator>
  <dc:description/>
  <dc:language>en-US</dc:language>
  <cp:lastModifiedBy>맛있다 군만두</cp:lastModifiedBy>
  <dcterms:modified xsi:type="dcterms:W3CDTF">2024-09-24T08:26:57Z</dcterms:modified>
  <cp:revision>3</cp:revision>
  <dc:subject/>
  <dc:title>슬라이드 1</dc:title>
</cp:coreProperties>
</file>