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C214-71C4-4FD5-BD49-A9FC8031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A624-484E-4736-9216-E4A21486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FC07-D2A1-4231-BB1A-99D9133A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406B-2109-4B1F-87EC-B5F258BD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13FF-6038-4AB0-A178-B020A44B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3C05-94E3-4FD0-AD56-EF9601A5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C8CA-0466-4475-B628-3C13E663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702D-366F-415E-AEEB-35AF5CDD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1427-F2C6-4332-95AD-0173465F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A24F-C75E-46CC-B389-06D3C91D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4D74-4E51-49D2-BD6E-5BD04C92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37C0-1936-483A-96C2-74D54FE1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CC72-E562-48DA-81CF-3F71922FC2F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image" Target="../media/image8.jpeg"/><Relationship Id="rId4" Type="http://schemas.openxmlformats.org/officeDocument/2006/relationships/slide" Target="slide7.xml"/><Relationship Id="rId5" Type="http://schemas.openxmlformats.org/officeDocument/2006/relationships/image" Target="../media/image9.jpeg"/><Relationship Id="rId6" Type="http://schemas.openxmlformats.org/officeDocument/2006/relationships/slide" Target="slide1.xm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3120" y="1433520"/>
            <a:ext cx="8610840" cy="33843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هناك في بيت الآب                        دايماً هانبقى معاك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5760" y="3660840"/>
            <a:ext cx="861048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بخشوع هانقدم كل سجودن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SA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SA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-47520" y="-38160"/>
            <a:ext cx="9239040" cy="6934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9600" y="1104840"/>
            <a:ext cx="861048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عنينا تنظر لي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وتشوف مجد بهاك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6840" y="3524400"/>
            <a:ext cx="861048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تبقى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نت دايما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موضوع تسبيح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9360" y="-14400"/>
            <a:ext cx="9162720" cy="6886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39840" y="1565280"/>
            <a:ext cx="861048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هانفضل نستناك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دايماً نهتف ليك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8240" y="3738600"/>
            <a:ext cx="861048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حبيبنا يا يسوع آمين تعالى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438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62000" y="1565280"/>
            <a:ext cx="7162920" cy="44816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طال انتظارنا لي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قلوبنا اشتاقت ليك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2520" y="3968640"/>
            <a:ext cx="82296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حبيبنا يا يسوع آمين تعالى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280" y="1716120"/>
            <a:ext cx="8610840" cy="33843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في أيدينا القيثارات                    نجلس صفوف صفوف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044960"/>
            <a:ext cx="861048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نرنم للحبيب اللي فدان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SA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SA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08200" y="1778040"/>
            <a:ext cx="7162560" cy="33843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مع كل المؤمنين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هناك ألوف ألوف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4044960"/>
            <a:ext cx="861048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نتمتع بالحبيب دا يا هنان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9360" y="-14400"/>
            <a:ext cx="9162720" cy="6886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63520" y="1758960"/>
            <a:ext cx="861048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 هانفضل نستناك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 دايماً نهتف ليك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5760" y="3968640"/>
            <a:ext cx="861048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حبيبنا يا يسوع آمين تعالى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438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85960" y="1525680"/>
            <a:ext cx="7162560" cy="44816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طال انتظارنا لي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قلوبنا اشتاقت ليك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890880"/>
            <a:ext cx="82296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حبيبنا يا يسوع آمين تعالى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ial"/>
              </a:rPr>
              <a:t>في أيدينا القيثار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4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</a:t>
            </a:r>
            <a:r>
              <a:rPr b="1" lang="ar-SA" sz="4000" spc="-1" strike="noStrike">
                <a:solidFill>
                  <a:srgbClr val="0000ff"/>
                </a:solidFill>
                <a:latin typeface="Arial"/>
                <a:cs typeface="Arial"/>
              </a:rPr>
              <a:t>و ها نفضل </a:t>
            </a: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6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ial"/>
              </a:rPr>
              <a:t>هناك في بيت الآب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2:02:07Z</dcterms:created>
  <dc:creator/>
  <dc:description/>
  <dc:language>en-US</dc:language>
  <cp:lastModifiedBy>ZonaNet</cp:lastModifiedBy>
  <dcterms:modified xsi:type="dcterms:W3CDTF">2008-09-16T10:43:04Z</dcterms:modified>
  <cp:revision>52</cp:revision>
  <dc:subject/>
  <dc:title>عرض تقديمي من PowerPoint</dc:title>
</cp:coreProperties>
</file>