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325-8A65-47BD-AC32-33C480FB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279-67C1-4DD6-9A3B-67C03F8B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DF7-EE67-4D07-BE87-ABFFBEB4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0C8-9512-489D-BCFF-AF2B35D6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130-E4CD-4573-8529-5F21F20C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2B5-B549-4C6F-BD02-5188896E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242-5AB2-43C0-AC34-00FD851F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A46-CD43-48CA-93FE-1FEF8CA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9A3-2AB4-48F5-8061-A537B02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AC9-A675-4BB3-9003-A8756D8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2CE-AB0E-472C-AD26-656DD2B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9A7-10A9-4BA8-B498-57C242C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848-8D33-4AF2-A733-3A863FBC944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image" Target="../media/image9.jpeg"/><Relationship Id="rId6" Type="http://schemas.openxmlformats.org/officeDocument/2006/relationships/slide" Target="slide1.xm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3120" y="1433520"/>
            <a:ext cx="861084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ناك في بيت الآب                        دايماً هانبقى مع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5760" y="366084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خشوع هانقدم كل سجودن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600" y="110484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نينا تنظر 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وتشوف مجد به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6840" y="352440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بقى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نت دايما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وضوع تسبي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9840" y="156528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هانفضل نستن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دايماً نهتف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8240" y="373860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43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2000" y="1565280"/>
            <a:ext cx="716292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ال انتظارنا 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قلوبنا اشتاقت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2520" y="3968640"/>
            <a:ext cx="8229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716120"/>
            <a:ext cx="861084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في أيدينا القيثارات                    نجلس صفوف صفوف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04496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نرنم للحبيب اللي فدان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8200" y="1778040"/>
            <a:ext cx="716256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ع كل المؤمنين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ناك ألوف ألوف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04496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نتمتع بالحبيب دا يا هنان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3520" y="175896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 هانفضل نستن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 دايماً نهتف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760" y="396864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3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85960" y="1525680"/>
            <a:ext cx="716256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ال انتظارنا 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قلوبنا اشتاقت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890880"/>
            <a:ext cx="8229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في أيدينا القيثار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  <a:cs typeface="Arial"/>
              </a:rPr>
              <a:t>و ها نفضل 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هناك في بيت الآ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2:02:07Z</dcterms:created>
  <dc:creator/>
  <dc:description/>
  <dc:language>en-US</dc:language>
  <cp:lastModifiedBy>ZonaNet</cp:lastModifiedBy>
  <dcterms:modified xsi:type="dcterms:W3CDTF">2008-09-16T10:43:04Z</dcterms:modified>
  <cp:revision>52</cp:revision>
  <dc:subject/>
  <dc:title>عرض تقديمي من PowerPoint</dc:title>
</cp:coreProperties>
</file>